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6B0A-E04E-49FE-A808-84081EBF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35D548-5CBA-4E94-AF4F-51DB729F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28760" y="4343400"/>
            <a:ext cx="600048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rning my name is Lawrence 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in BPA’s Office of Technology Innovation.  I am currently developing BPA’s smart grid roadmap and drafting an implementation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group is a relatively new and has only been around for about 3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ort directly to the Deputy Administrator of Bonneville so we get plenty of oversight and vi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buNone/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72600" y="4343400"/>
            <a:ext cx="6226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Technology Innovation Council h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execs and technologists from across the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ncil provides advice, guidance and integration of R&amp;D into B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ncil is supported by the Technology Innovation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has 8 people to manage BPA’s R&amp;D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ff develop &amp; manage the agency’s R&amp;D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project managers manage their projects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n some cases we actually manage the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 5 roadmaps now and are working to develo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admap defines which technologies are important to BPA and helps to prioritize our research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AFF2AB-F7E8-4634-B6C0-84FE9949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looking at our portfolio considerations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try to keep a balance across the various roadmap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way to accomplish this is to use focus areas for special at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electing our projects we balance across incremental vs breakthrough with appropriate attention on near, mid, and long term, and potential value delivered to B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 that are low cost/high value are put directly into the capital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 that are high cost/low benefits are not even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snapshot of the cover page of each of our current Technology Road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se are a few years old and we want to do some updating of these before too lo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rea we are still sorting out is how frequently these need to be upd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hould be noted that all of our roadmaps are first vers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66D0D3-84FF-48EF-8D77-1EC6BA10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Target 2 from the previou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dentify what is needed to achieve a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ology features that would satisfy thos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echnologies have thos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1BB222-41AF-49B2-A90B-2DFF0525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the same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 what future technologies are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 look at the current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the gaps between the current and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timeline for developing the future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help guide us for selecting projects for addressing g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very much technology that is exclusive to B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when we’re considering a technology to invest in we want to know for what rea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alance our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the projects we’re going to invest in will tend towards larger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, to re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gone through this cycle twic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starting through it aga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just about to start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188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188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188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188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188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188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188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188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188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188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188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17000" indent="-20340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424160" indent="-20340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830960" indent="-20340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830960" indent="-20340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830960" indent="-203400">
              <a:lnSpc>
                <a:spcPct val="95000"/>
              </a:lnSpc>
              <a:spcAft>
                <a:spcPts val="1749"/>
              </a:spcAft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    O    N    N    E    V    I    L    L    E           P    O    W    E    R           A    D    M    I    N    I    S    T    R    A    T    I    O   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53480" y="5975280"/>
            <a:ext cx="1038240" cy="730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238880" y="64008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lide </a:t>
            </a:r>
            <a:fld id="{B918A520-959D-4D3E-BEAF-C0EC52BD979A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6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    O    N    N    E    V    I    L    L    E           P    O    W    E    R           A    D    M    I    N    I    S    T    R    A    T    I    O   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53480" y="5975280"/>
            <a:ext cx="1038240" cy="73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B074-7E93-46A2-AB84-8A6766D671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181480"/>
            <a:ext cx="320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Terry Oliver</a:t>
            </a: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"/>
              </a:rPr>
              <a:t>Chief Technology Innovation Offi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2133720"/>
            <a:ext cx="92962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6640" tIns="46800" bIns="46800" anchor="ctr">
            <a:noAutofit/>
          </a:bodyPr>
          <a:p>
            <a:pPr marL="241200" algn="ctr"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echnology Inno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7"/>
          <p:cNvGrpSpPr/>
          <p:nvPr/>
        </p:nvGrpSpPr>
        <p:grpSpPr>
          <a:xfrm>
            <a:off x="254160" y="1295280"/>
            <a:ext cx="8610480" cy="4280040"/>
            <a:chOff x="254160" y="1295280"/>
            <a:chExt cx="8610480" cy="4280040"/>
          </a:xfrm>
        </p:grpSpPr>
        <p:sp>
          <p:nvSpPr>
            <p:cNvPr id="269" name="Freeform 7"/>
            <p:cNvSpPr/>
            <p:nvPr/>
          </p:nvSpPr>
          <p:spPr>
            <a:xfrm>
              <a:off x="736560" y="1749960"/>
              <a:ext cx="8098920" cy="2860200"/>
            </a:xfrm>
            <a:prstGeom prst="pie">
              <a:avLst/>
            </a:pr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0"/>
            <p:cNvSpPr/>
            <p:nvPr/>
          </p:nvSpPr>
          <p:spPr>
            <a:xfrm flipH="1">
              <a:off x="1778040" y="3809880"/>
              <a:ext cx="1440" cy="114300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2"/>
            <p:cNvSpPr/>
            <p:nvPr/>
          </p:nvSpPr>
          <p:spPr>
            <a:xfrm flipH="1">
              <a:off x="2551320" y="3352680"/>
              <a:ext cx="1440" cy="160020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3541680" y="2895480"/>
              <a:ext cx="1440" cy="205740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6"/>
            <p:cNvSpPr/>
            <p:nvPr/>
          </p:nvSpPr>
          <p:spPr>
            <a:xfrm flipH="1">
              <a:off x="5510160" y="1295280"/>
              <a:ext cx="1440" cy="365796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9"/>
            <p:cNvSpPr/>
            <p:nvPr/>
          </p:nvSpPr>
          <p:spPr>
            <a:xfrm>
              <a:off x="254160" y="3479760"/>
              <a:ext cx="1371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Gill Sans MT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Gill Sans MT"/>
                </a:rPr>
                <a:t>&am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Gill Sans MT"/>
                </a:rPr>
                <a:t>Develo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0"/>
            <p:cNvSpPr/>
            <p:nvPr/>
          </p:nvSpPr>
          <p:spPr>
            <a:xfrm>
              <a:off x="1320840" y="286992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060"/>
                  </a:solidFill>
                  <a:latin typeface="Gill Sans MT"/>
                </a:rPr>
                <a:t>Demon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21"/>
            <p:cNvSpPr/>
            <p:nvPr/>
          </p:nvSpPr>
          <p:spPr>
            <a:xfrm>
              <a:off x="1924200" y="2336760"/>
              <a:ext cx="222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Gill Sans MT"/>
                </a:rPr>
                <a:t>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22"/>
            <p:cNvSpPr/>
            <p:nvPr/>
          </p:nvSpPr>
          <p:spPr>
            <a:xfrm>
              <a:off x="3530520" y="1803240"/>
              <a:ext cx="18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66"/>
                  </a:solidFill>
                  <a:latin typeface="Gill Sans MT"/>
                </a:rPr>
                <a:t>Progra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23"/>
            <p:cNvSpPr/>
            <p:nvPr/>
          </p:nvSpPr>
          <p:spPr>
            <a:xfrm>
              <a:off x="5892840" y="137124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Gill Sans MT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eft-Right Arrow 25"/>
            <p:cNvSpPr/>
            <p:nvPr/>
          </p:nvSpPr>
          <p:spPr>
            <a:xfrm>
              <a:off x="876240" y="4800600"/>
              <a:ext cx="2577960" cy="380880"/>
            </a:xfrm>
            <a:prstGeom prst="leftRightArrow">
              <a:avLst>
                <a:gd name="adj1" fmla="val 50000"/>
                <a:gd name="adj2" fmla="val 50011"/>
              </a:avLst>
            </a:prstGeom>
            <a:solidFill>
              <a:srgbClr val="80808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echnical Barr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eft-Right Arrow 26"/>
            <p:cNvSpPr/>
            <p:nvPr/>
          </p:nvSpPr>
          <p:spPr>
            <a:xfrm>
              <a:off x="2616120" y="5194440"/>
              <a:ext cx="1981080" cy="380880"/>
            </a:xfrm>
            <a:prstGeom prst="leftRightArrow">
              <a:avLst>
                <a:gd name="adj1" fmla="val 50000"/>
                <a:gd name="adj2" fmla="val 50015"/>
              </a:avLst>
            </a:prstGeom>
            <a:solidFill>
              <a:srgbClr val="c4bd97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rket Barr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8407440" y="1650600"/>
              <a:ext cx="4572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095880" y="5334120"/>
            <a:ext cx="2756160" cy="682560"/>
            <a:chOff x="6095880" y="5334120"/>
            <a:chExt cx="2756160" cy="682560"/>
          </a:xfrm>
        </p:grpSpPr>
        <p:sp>
          <p:nvSpPr>
            <p:cNvPr id="99" name=""/>
            <p:cNvSpPr/>
            <p:nvPr/>
          </p:nvSpPr>
          <p:spPr>
            <a:xfrm>
              <a:off x="6620040" y="5334120"/>
              <a:ext cx="2232000" cy="682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4800" bIns="64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Each Roadmap will ha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its own set of targ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5880" y="5413320"/>
              <a:ext cx="381240" cy="534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78c8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0720" y="2530440"/>
            <a:ext cx="5428800" cy="810720"/>
            <a:chOff x="450720" y="2530440"/>
            <a:chExt cx="5428800" cy="810720"/>
          </a:xfrm>
        </p:grpSpPr>
        <p:sp>
          <p:nvSpPr>
            <p:cNvPr id="102" name=""/>
            <p:cNvSpPr/>
            <p:nvPr/>
          </p:nvSpPr>
          <p:spPr>
            <a:xfrm>
              <a:off x="450720" y="2530440"/>
              <a:ext cx="5428800" cy="42300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4800" bIns="64800" anchor="ctr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lo"/>
                </a:rPr>
                <a:t>Technology Innovation Off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bjektbereich"/>
            <p:cNvSpPr/>
            <p:nvPr/>
          </p:nvSpPr>
          <p:spPr>
            <a:xfrm>
              <a:off x="450720" y="2953440"/>
              <a:ext cx="5428800" cy="38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4800" bIns="648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olo"/>
                </a:rPr>
                <a:t>Chief Technology Innovation Officer: Terry Ol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0720" y="1432080"/>
            <a:ext cx="5429160" cy="806400"/>
            <a:chOff x="450720" y="1432080"/>
            <a:chExt cx="5429160" cy="806400"/>
          </a:xfrm>
        </p:grpSpPr>
        <p:sp>
          <p:nvSpPr>
            <p:cNvPr id="105" name=""/>
            <p:cNvSpPr/>
            <p:nvPr/>
          </p:nvSpPr>
          <p:spPr>
            <a:xfrm>
              <a:off x="450720" y="1432080"/>
              <a:ext cx="5429160" cy="371520"/>
            </a:xfrm>
            <a:prstGeom prst="rect">
              <a:avLst/>
            </a:prstGeom>
            <a:solidFill>
              <a:srgbClr val="f21c0a"/>
            </a:solidFill>
            <a:ln w="12600">
              <a:solidFill>
                <a:srgbClr val="f21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4800" bIns="64800" anchor="ctr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Polo"/>
                </a:rPr>
                <a:t>Technology Confirmation/Innovation Counc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9000" y="1803600"/>
              <a:ext cx="5409000" cy="43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Polo"/>
                </a:rPr>
                <a:t>Chaired by Deputy Administrator: Executives and Technologis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10320" y="1062000"/>
            <a:ext cx="222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olo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ktbereich"/>
          <p:cNvSpPr/>
          <p:nvPr/>
        </p:nvSpPr>
        <p:spPr>
          <a:xfrm>
            <a:off x="447840" y="3657600"/>
            <a:ext cx="5429160" cy="433440"/>
          </a:xfrm>
          <a:prstGeom prst="rect">
            <a:avLst/>
          </a:prstGeom>
          <a:solidFill>
            <a:srgbClr val="b4b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olo"/>
              </a:rPr>
              <a:t>Technology Road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091040"/>
            <a:ext cx="684360" cy="815760"/>
          </a:xfrm>
          <a:prstGeom prst="rect">
            <a:avLst/>
          </a:prstGeom>
          <a:solidFill>
            <a:srgbClr val="ffff99">
              <a:alpha val="50000"/>
            </a:srgbClr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800000"/>
                </a:solidFill>
                <a:latin typeface="Polo"/>
              </a:rPr>
              <a:t>Next 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840" y="4091040"/>
            <a:ext cx="684000" cy="81576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ff"/>
                </a:solidFill>
                <a:latin typeface="Polo"/>
              </a:rPr>
              <a:t>Energy Effici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8600" y="4091040"/>
            <a:ext cx="852480" cy="81576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ff"/>
                </a:solidFill>
                <a:latin typeface="Polo"/>
              </a:rPr>
              <a:t>Transmi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4091040"/>
            <a:ext cx="762120" cy="81576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ff"/>
                </a:solidFill>
                <a:latin typeface="Polo"/>
              </a:rPr>
              <a:t>Renew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091040"/>
            <a:ext cx="762120" cy="81576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ff"/>
                </a:solidFill>
                <a:latin typeface="Polo"/>
              </a:rPr>
              <a:t>Hydro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091040"/>
            <a:ext cx="609480" cy="81576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ff"/>
                </a:solidFill>
                <a:latin typeface="Polo"/>
              </a:rPr>
              <a:t>Physical Secur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7480" y="4091040"/>
            <a:ext cx="684000" cy="815760"/>
          </a:xfrm>
          <a:prstGeom prst="rect">
            <a:avLst/>
          </a:prstGeom>
          <a:solidFill>
            <a:srgbClr val="ffff99">
              <a:alpha val="50000"/>
            </a:srgbClr>
          </a:solidFill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800000"/>
                </a:solidFill>
                <a:latin typeface="Polo"/>
              </a:rPr>
              <a:t>Climate Chan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2"/>
            <a:endCxn id="117" idx="0"/>
          </p:cNvCxnSpPr>
          <p:nvPr/>
        </p:nvCxnSpPr>
        <p:spPr>
          <a:xfrm flipH="1">
            <a:off x="495360" y="4906800"/>
            <a:ext cx="29556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6" idx="2"/>
            <a:endCxn id="102" idx="0"/>
          </p:cNvCxnSpPr>
          <p:nvPr/>
        </p:nvCxnSpPr>
        <p:spPr>
          <a:xfrm>
            <a:off x="3164040" y="2247480"/>
            <a:ext cx="2160" cy="283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3" idx="2"/>
            <a:endCxn id="108" idx="0"/>
          </p:cNvCxnSpPr>
          <p:nvPr/>
        </p:nvCxnSpPr>
        <p:spPr>
          <a:xfrm flipH="1">
            <a:off x="3161520" y="3341520"/>
            <a:ext cx="396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20" name=""/>
          <p:cNvGrpSpPr/>
          <p:nvPr/>
        </p:nvGrpSpPr>
        <p:grpSpPr>
          <a:xfrm>
            <a:off x="6099120" y="3654360"/>
            <a:ext cx="2747880" cy="1298520"/>
            <a:chOff x="6099120" y="3654360"/>
            <a:chExt cx="2747880" cy="1298520"/>
          </a:xfrm>
        </p:grpSpPr>
        <p:sp>
          <p:nvSpPr>
            <p:cNvPr id="121" name=""/>
            <p:cNvSpPr/>
            <p:nvPr/>
          </p:nvSpPr>
          <p:spPr>
            <a:xfrm>
              <a:off x="6613560" y="3654360"/>
              <a:ext cx="2233440" cy="1298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4800" bIns="64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Define which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are important to BP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ID gaps between the cur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and future technologi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Help prioritize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choice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9120" y="3828960"/>
              <a:ext cx="380880" cy="878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099120" y="2448000"/>
            <a:ext cx="2752920" cy="828720"/>
            <a:chOff x="6099120" y="2448000"/>
            <a:chExt cx="2752920" cy="828720"/>
          </a:xfrm>
        </p:grpSpPr>
        <p:sp>
          <p:nvSpPr>
            <p:cNvPr id="124" name=""/>
            <p:cNvSpPr/>
            <p:nvPr/>
          </p:nvSpPr>
          <p:spPr>
            <a:xfrm>
              <a:off x="6620040" y="2540160"/>
              <a:ext cx="2232000" cy="736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4800" bIns="64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Develop &amp; manage Portfol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Develop Project Mgt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Manage Proj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Develop Policy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9120" y="2448000"/>
              <a:ext cx="380880" cy="534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95880" y="1219320"/>
            <a:ext cx="2742840" cy="1066320"/>
            <a:chOff x="6095880" y="1219320"/>
            <a:chExt cx="2742840" cy="1066320"/>
          </a:xfrm>
        </p:grpSpPr>
        <p:sp>
          <p:nvSpPr>
            <p:cNvPr id="127" name=""/>
            <p:cNvSpPr/>
            <p:nvPr/>
          </p:nvSpPr>
          <p:spPr>
            <a:xfrm>
              <a:off x="6620400" y="1450080"/>
              <a:ext cx="2218320" cy="682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4800" bIns="64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Provide direction &amp; principles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Select portfoli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Polo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Ensure decisions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Polo"/>
                </a:rPr>
                <a:t>results are appli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1219320"/>
              <a:ext cx="377640" cy="1066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"/>
          <p:cNvSpPr/>
          <p:nvPr/>
        </p:nvSpPr>
        <p:spPr>
          <a:xfrm>
            <a:off x="1447920" y="457200"/>
            <a:ext cx="5486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6640" tIns="46800" bIns="46800" anchor="ctr">
            <a:noAutofit/>
          </a:bodyPr>
          <a:p>
            <a:pPr marL="241200"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chnology Innovation Structure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5410080"/>
            <a:ext cx="83808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ktbereich"/>
          <p:cNvSpPr/>
          <p:nvPr/>
        </p:nvSpPr>
        <p:spPr>
          <a:xfrm>
            <a:off x="457200" y="6195960"/>
            <a:ext cx="3657600" cy="4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olo"/>
              </a:rPr>
              <a:t>Technologies Identified in Road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7" idx="2"/>
            <a:endCxn id="130" idx="0"/>
          </p:cNvCxnSpPr>
          <p:nvPr/>
        </p:nvCxnSpPr>
        <p:spPr>
          <a:xfrm>
            <a:off x="495360" y="5962680"/>
            <a:ext cx="179136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914400" y="5410080"/>
            <a:ext cx="83808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5410080"/>
            <a:ext cx="83844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410080"/>
            <a:ext cx="83808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5410080"/>
            <a:ext cx="83808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410080"/>
            <a:ext cx="83808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410080"/>
            <a:ext cx="838440" cy="552600"/>
          </a:xfrm>
          <a:prstGeom prst="rect">
            <a:avLst/>
          </a:prstGeom>
          <a:solidFill>
            <a:srgbClr val="f78c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Polo"/>
              </a:rPr>
              <a:t>Technology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2"/>
            <a:endCxn id="130" idx="0"/>
          </p:cNvCxnSpPr>
          <p:nvPr/>
        </p:nvCxnSpPr>
        <p:spPr>
          <a:xfrm>
            <a:off x="1333440" y="5962680"/>
            <a:ext cx="95328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3" idx="2"/>
            <a:endCxn id="130" idx="0"/>
          </p:cNvCxnSpPr>
          <p:nvPr/>
        </p:nvCxnSpPr>
        <p:spPr>
          <a:xfrm>
            <a:off x="2171520" y="5962680"/>
            <a:ext cx="11484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0" idx="0"/>
          </p:cNvCxnSpPr>
          <p:nvPr/>
        </p:nvCxnSpPr>
        <p:spPr>
          <a:xfrm flipH="1">
            <a:off x="2285280" y="5962680"/>
            <a:ext cx="72468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5" idx="2"/>
            <a:endCxn id="130" idx="0"/>
          </p:cNvCxnSpPr>
          <p:nvPr/>
        </p:nvCxnSpPr>
        <p:spPr>
          <a:xfrm flipH="1">
            <a:off x="2285280" y="5962680"/>
            <a:ext cx="156276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11" idx="2"/>
            <a:endCxn id="132" idx="0"/>
          </p:cNvCxnSpPr>
          <p:nvPr/>
        </p:nvCxnSpPr>
        <p:spPr>
          <a:xfrm flipH="1">
            <a:off x="1333080" y="4906800"/>
            <a:ext cx="22320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12" idx="2"/>
            <a:endCxn id="133" idx="0"/>
          </p:cNvCxnSpPr>
          <p:nvPr/>
        </p:nvCxnSpPr>
        <p:spPr>
          <a:xfrm flipH="1">
            <a:off x="2171160" y="4906800"/>
            <a:ext cx="19116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13" idx="2"/>
            <a:endCxn id="134" idx="0"/>
          </p:cNvCxnSpPr>
          <p:nvPr/>
        </p:nvCxnSpPr>
        <p:spPr>
          <a:xfrm flipH="1">
            <a:off x="3009240" y="4906800"/>
            <a:ext cx="11484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14" idx="2"/>
            <a:endCxn id="135" idx="0"/>
          </p:cNvCxnSpPr>
          <p:nvPr/>
        </p:nvCxnSpPr>
        <p:spPr>
          <a:xfrm>
            <a:off x="3809880" y="4906800"/>
            <a:ext cx="388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15" idx="2"/>
            <a:endCxn id="136" idx="0"/>
          </p:cNvCxnSpPr>
          <p:nvPr/>
        </p:nvCxnSpPr>
        <p:spPr>
          <a:xfrm flipH="1">
            <a:off x="4762080" y="4914720"/>
            <a:ext cx="78480" cy="4957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09" idx="2"/>
            <a:endCxn id="137" idx="0"/>
          </p:cNvCxnSpPr>
          <p:nvPr/>
        </p:nvCxnSpPr>
        <p:spPr>
          <a:xfrm>
            <a:off x="5524560" y="4916160"/>
            <a:ext cx="76680" cy="494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advTm="7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26828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Portfolio Approa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82720" y="1311120"/>
            <a:ext cx="7327800" cy="4978080"/>
            <a:chOff x="882720" y="1311120"/>
            <a:chExt cx="7327800" cy="4978080"/>
          </a:xfrm>
        </p:grpSpPr>
        <p:sp>
          <p:nvSpPr>
            <p:cNvPr id="150" name="Oval 5"/>
            <p:cNvSpPr/>
            <p:nvPr/>
          </p:nvSpPr>
          <p:spPr>
            <a:xfrm rot="20065200">
              <a:off x="990360" y="2742840"/>
              <a:ext cx="7111800" cy="2114640"/>
            </a:xfrm>
            <a:prstGeom prst="ellipse">
              <a:avLst/>
            </a:prstGeom>
            <a:solidFill>
              <a:srgbClr val="ffd000"/>
            </a:soli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 rot="20228400">
              <a:off x="3200400" y="3657600"/>
              <a:ext cx="2305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75600" tIns="35640" bIns="35640" anchor="t">
              <a:noAutofit/>
            </a:bodyPr>
            <a:p>
              <a:pPr marL="39600" algn="ctr">
                <a:lnSpc>
                  <a:spcPct val="100000"/>
                </a:lnSpc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Optima"/>
                </a:rPr>
                <a:t>Portfol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9"/>
          <p:cNvSpPr/>
          <p:nvPr/>
        </p:nvSpPr>
        <p:spPr>
          <a:xfrm flipV="1">
            <a:off x="1071000" y="1790280"/>
            <a:ext cx="21960" cy="386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071720" y="5634000"/>
            <a:ext cx="715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186000" y="5959440"/>
            <a:ext cx="2816280" cy="366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Optima"/>
              </a:rPr>
              <a:t>Expec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 rot="16200000">
            <a:off x="344160" y="3432240"/>
            <a:ext cx="779400" cy="366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Opti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35040" y="4403880"/>
            <a:ext cx="1930320" cy="1076040"/>
            <a:chOff x="1535040" y="4403880"/>
            <a:chExt cx="1930320" cy="1076040"/>
          </a:xfrm>
        </p:grpSpPr>
        <p:sp>
          <p:nvSpPr>
            <p:cNvPr id="157" name="Oval 14"/>
            <p:cNvSpPr/>
            <p:nvPr/>
          </p:nvSpPr>
          <p:spPr>
            <a:xfrm>
              <a:off x="1535040" y="4403880"/>
              <a:ext cx="1930320" cy="1076040"/>
            </a:xfrm>
            <a:prstGeom prst="ellipse">
              <a:avLst/>
            </a:prstGeom>
            <a:solidFill>
              <a:srgbClr val="ff9500"/>
            </a:soli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1582560" y="4529160"/>
              <a:ext cx="174312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75600" tIns="35640" bIns="35640" anchor="t">
              <a:noAutofit/>
            </a:bodyPr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 Cost – 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remental 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rove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6"/>
          <p:cNvGrpSpPr/>
          <p:nvPr/>
        </p:nvGrpSpPr>
        <p:grpSpPr>
          <a:xfrm>
            <a:off x="5905440" y="4456080"/>
            <a:ext cx="1830600" cy="804960"/>
            <a:chOff x="5905440" y="4456080"/>
            <a:chExt cx="1830600" cy="804960"/>
          </a:xfrm>
        </p:grpSpPr>
        <p:sp>
          <p:nvSpPr>
            <p:cNvPr id="160" name="Oval 17"/>
            <p:cNvSpPr/>
            <p:nvPr/>
          </p:nvSpPr>
          <p:spPr>
            <a:xfrm>
              <a:off x="5905440" y="4456080"/>
              <a:ext cx="1830600" cy="804960"/>
            </a:xfrm>
            <a:prstGeom prst="ellipse">
              <a:avLst/>
            </a:prstGeom>
            <a:solidFill>
              <a:srgbClr val="008a00"/>
            </a:soli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5970240" y="4508280"/>
              <a:ext cx="1699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75600" tIns="35640" bIns="35640" anchor="t">
              <a:noAutofit/>
            </a:bodyPr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 Hanging 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uit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 !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0"/>
          <p:cNvGrpSpPr/>
          <p:nvPr/>
        </p:nvGrpSpPr>
        <p:grpSpPr>
          <a:xfrm>
            <a:off x="1303200" y="1995480"/>
            <a:ext cx="1882440" cy="1093680"/>
            <a:chOff x="1303200" y="1995480"/>
            <a:chExt cx="1882440" cy="1093680"/>
          </a:xfrm>
        </p:grpSpPr>
        <p:sp>
          <p:nvSpPr>
            <p:cNvPr id="163" name="Oval 20"/>
            <p:cNvSpPr/>
            <p:nvPr/>
          </p:nvSpPr>
          <p:spPr>
            <a:xfrm>
              <a:off x="1303200" y="1995480"/>
              <a:ext cx="1874520" cy="1093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1339560" y="2199240"/>
              <a:ext cx="18460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75600" tIns="35640" bIns="35640" anchor="t">
              <a:noAutofit/>
            </a:bodyPr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 Cost – </a:t>
              </a:r>
              <a:br>
                <a:rPr sz="1700"/>
              </a:b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 Benefi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OP!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7"/>
          <p:cNvGrpSpPr/>
          <p:nvPr/>
        </p:nvGrpSpPr>
        <p:grpSpPr>
          <a:xfrm>
            <a:off x="5486400" y="2063880"/>
            <a:ext cx="2301480" cy="1212840"/>
            <a:chOff x="5486400" y="2063880"/>
            <a:chExt cx="2301480" cy="1212840"/>
          </a:xfrm>
        </p:grpSpPr>
        <p:sp>
          <p:nvSpPr>
            <p:cNvPr id="166" name="Oval 23"/>
            <p:cNvSpPr/>
            <p:nvPr/>
          </p:nvSpPr>
          <p:spPr>
            <a:xfrm>
              <a:off x="5571360" y="2063880"/>
              <a:ext cx="2113560" cy="1212840"/>
            </a:xfrm>
            <a:prstGeom prst="ellipse">
              <a:avLst/>
            </a:prstGeom>
            <a:solidFill>
              <a:srgbClr val="ff9500"/>
            </a:solidFill>
            <a:ln w="9360">
              <a:solidFill>
                <a:srgbClr val="000000"/>
              </a:solidFill>
              <a:miter/>
            </a:ln>
            <a:effectLst>
              <a:outerShdw dist="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"/>
            <p:cNvSpPr/>
            <p:nvPr/>
          </p:nvSpPr>
          <p:spPr>
            <a:xfrm>
              <a:off x="5486400" y="2295000"/>
              <a:ext cx="2301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75600" tIns="35640" bIns="35640" anchor="t">
              <a:noAutofit/>
            </a:bodyPr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 Cost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 Valu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 algn="ctr">
                <a:tabLst>
                  <a:tab algn="l" pos="0"/>
                  <a:tab algn="l" pos="7491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xt Technology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31"/>
          <p:cNvSpPr/>
          <p:nvPr/>
        </p:nvSpPr>
        <p:spPr>
          <a:xfrm>
            <a:off x="305280" y="63972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ortfolio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81960" y="6094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oad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527-9468-4169-BB3C-B91E6A3FB1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" y="914400"/>
            <a:ext cx="2590200" cy="2057400"/>
            <a:chOff x="304920" y="914400"/>
            <a:chExt cx="2590200" cy="2057400"/>
          </a:xfrm>
        </p:grpSpPr>
        <p:grpSp>
          <p:nvGrpSpPr>
            <p:cNvPr id="172" name=""/>
            <p:cNvGrpSpPr/>
            <p:nvPr/>
          </p:nvGrpSpPr>
          <p:grpSpPr>
            <a:xfrm>
              <a:off x="304920" y="1069200"/>
              <a:ext cx="2380320" cy="1712160"/>
              <a:chOff x="304920" y="1069200"/>
              <a:chExt cx="2380320" cy="171216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304920" y="1069200"/>
                <a:ext cx="238032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Energy Efficienc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Technology Road M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“</a:t>
                </a: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It is common for technolog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to be introduced to reduce cost,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while its greatest valu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turns out to b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the added value capabil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Arial"/>
                  </a:rPr>
                  <a:t>that it brings.”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27716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"/>
              <p:cNvSpPr/>
              <p:nvPr/>
            </p:nvSpPr>
            <p:spPr>
              <a:xfrm>
                <a:off x="488880" y="2550240"/>
                <a:ext cx="2073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80"/>
                    </a:solidFill>
                    <a:latin typeface="Arial"/>
                  </a:rPr>
                  <a:t>July  200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44600" y="914400"/>
              <a:ext cx="24505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920" y="985320"/>
              <a:ext cx="2380320" cy="184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629400" y="608040"/>
            <a:ext cx="2133360" cy="2592360"/>
            <a:chOff x="6629400" y="608040"/>
            <a:chExt cx="2133360" cy="2592360"/>
          </a:xfrm>
        </p:grpSpPr>
        <p:sp>
          <p:nvSpPr>
            <p:cNvPr id="178" name="Rectangle 3"/>
            <p:cNvSpPr/>
            <p:nvPr/>
          </p:nvSpPr>
          <p:spPr>
            <a:xfrm>
              <a:off x="6629400" y="608040"/>
              <a:ext cx="213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Felix Titling"/>
                  <a:ea typeface="Times New Roman"/>
                </a:rPr>
                <a:t>Trans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Felix Titling"/>
                  <a:ea typeface="Times New Roman"/>
                </a:rPr>
                <a:t>TECHNOLOGY ROAD M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eptember 200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2" descr="Click For More Details"/>
            <p:cNvPicPr/>
            <p:nvPr/>
          </p:nvPicPr>
          <p:blipFill>
            <a:blip r:embed="rId1"/>
            <a:stretch/>
          </p:blipFill>
          <p:spPr>
            <a:xfrm>
              <a:off x="7010280" y="1371600"/>
              <a:ext cx="1400040" cy="1114560"/>
            </a:xfrm>
            <a:prstGeom prst="rect">
              <a:avLst/>
            </a:prstGeom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0" name="Rectangle 4"/>
            <p:cNvSpPr/>
            <p:nvPr/>
          </p:nvSpPr>
          <p:spPr>
            <a:xfrm>
              <a:off x="6629400" y="2513160"/>
              <a:ext cx="213336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1885 Gener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t first glance one may think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“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y how things have changed,”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ut at second glance one may admit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“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hings haven’t changed much at all.”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609480"/>
              <a:ext cx="213336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52280" y="3429000"/>
            <a:ext cx="2286000" cy="2742840"/>
            <a:chOff x="152280" y="3429000"/>
            <a:chExt cx="2286000" cy="2742840"/>
          </a:xfrm>
        </p:grpSpPr>
        <p:sp>
          <p:nvSpPr>
            <p:cNvPr id="183" name="Rectangle 5"/>
            <p:cNvSpPr/>
            <p:nvPr/>
          </p:nvSpPr>
          <p:spPr>
            <a:xfrm>
              <a:off x="152280" y="3438360"/>
              <a:ext cx="2286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5400"/>
                  </a:solidFill>
                  <a:latin typeface="Arial"/>
                  <a:ea typeface="Times New Roman"/>
                </a:rPr>
                <a:t>Renewable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5400"/>
                  </a:solidFill>
                  <a:latin typeface="Arial"/>
                  <a:ea typeface="Times New Roman"/>
                </a:rPr>
                <a:t>Technology Road M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5400"/>
                  </a:solidFill>
                  <a:latin typeface="Arial"/>
                  <a:ea typeface="Times New Roman"/>
                </a:rPr>
                <a:t>(Wind, Ocean Wave, In-Stream Tidal &amp; Solar Photovoltai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4" descr="Old and New Windmill"/>
            <p:cNvPicPr/>
            <p:nvPr/>
          </p:nvPicPr>
          <p:blipFill>
            <a:blip r:embed="rId2"/>
            <a:srcRect l="2362" t="7503" r="0" b="34007"/>
            <a:stretch/>
          </p:blipFill>
          <p:spPr>
            <a:xfrm>
              <a:off x="627120" y="4245480"/>
              <a:ext cx="143172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6"/>
            <p:cNvSpPr/>
            <p:nvPr/>
          </p:nvSpPr>
          <p:spPr>
            <a:xfrm>
              <a:off x="762120" y="5860440"/>
              <a:ext cx="1143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September 200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3429000"/>
              <a:ext cx="1981080" cy="274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791320" y="3261600"/>
            <a:ext cx="2286000" cy="2918160"/>
            <a:chOff x="5791320" y="3261600"/>
            <a:chExt cx="2286000" cy="2918160"/>
          </a:xfrm>
        </p:grpSpPr>
        <p:sp>
          <p:nvSpPr>
            <p:cNvPr id="188" name="Rectangle 5"/>
            <p:cNvSpPr/>
            <p:nvPr/>
          </p:nvSpPr>
          <p:spPr>
            <a:xfrm>
              <a:off x="6172200" y="3261600"/>
              <a:ext cx="144792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w Cen MT Condensed Extra Bold"/>
                </a:rPr>
                <a:t>Physical Securit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w Cen MT Condensed Extra Bold"/>
                </a:rPr>
                <a:t>Technology Road M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February 200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4" descr="ENIGMA Machine"/>
            <p:cNvPicPr/>
            <p:nvPr/>
          </p:nvPicPr>
          <p:blipFill>
            <a:blip r:embed="rId3"/>
            <a:stretch/>
          </p:blipFill>
          <p:spPr>
            <a:xfrm>
              <a:off x="6142320" y="3963600"/>
              <a:ext cx="1565280" cy="17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6"/>
            <p:cNvSpPr/>
            <p:nvPr/>
          </p:nvSpPr>
          <p:spPr>
            <a:xfrm>
              <a:off x="5791320" y="58050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rebuchet MS"/>
                </a:rPr>
                <a:t>The Enigma was a portable cipher machin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rebuchet MS"/>
                </a:rPr>
                <a:t>used to encrypt and decrypt secret mess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91320" y="3408840"/>
              <a:ext cx="2209680" cy="277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19520" y="3429000"/>
            <a:ext cx="2514600" cy="2868480"/>
            <a:chOff x="2819520" y="3429000"/>
            <a:chExt cx="2514600" cy="2868480"/>
          </a:xfrm>
        </p:grpSpPr>
        <p:sp>
          <p:nvSpPr>
            <p:cNvPr id="193" name=""/>
            <p:cNvSpPr/>
            <p:nvPr/>
          </p:nvSpPr>
          <p:spPr>
            <a:xfrm>
              <a:off x="2882880" y="3449880"/>
              <a:ext cx="24148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Felix Titling"/>
                  <a:ea typeface="Times New Roman"/>
                </a:rPr>
                <a:t>Power servic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Felix Titling"/>
                  <a:ea typeface="Times New Roman"/>
                </a:rPr>
                <a:t>TECHNOLOGY ROAD M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March 200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3138480" y="4023000"/>
              <a:ext cx="1899360" cy="13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819520" y="5457960"/>
              <a:ext cx="25146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Verdana"/>
                  <a:ea typeface="Times New Roman"/>
                </a:rPr>
                <a:t>Hungry Horse D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Research is to see what everybody else has seen, and to think what nobody else has thought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-  Albert Szent-Gyorgy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0720" y="3429000"/>
              <a:ext cx="2392920" cy="282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7"/>
          <p:cNvSpPr/>
          <p:nvPr/>
        </p:nvSpPr>
        <p:spPr>
          <a:xfrm>
            <a:off x="2895480" y="6094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chnology Roadmaps Guide th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743200" y="190512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6640" tIns="46800" bIns="46800" anchor="ctr">
            <a:noAutofit/>
          </a:bodyPr>
          <a:p>
            <a:pPr marL="241200" algn="ctr">
              <a:lnSpc>
                <a:spcPct val="9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Explicit Linkages to Business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igure 5 -  Target 2   9-13-06  8-11"/>
          <p:cNvPicPr/>
          <p:nvPr/>
        </p:nvPicPr>
        <p:blipFill>
          <a:blip r:embed="rId1"/>
          <a:stretch/>
        </p:blipFill>
        <p:spPr>
          <a:xfrm>
            <a:off x="0" y="6094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229680" y="6397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oad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igure 11 -  Power Flow Gap  9-18-06  8-11"/>
          <p:cNvPicPr/>
          <p:nvPr/>
        </p:nvPicPr>
        <p:blipFill>
          <a:blip r:embed="rId1"/>
          <a:stretch/>
        </p:blipFill>
        <p:spPr>
          <a:xfrm>
            <a:off x="228600" y="723960"/>
            <a:ext cx="8153280" cy="55465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381960" y="63972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oad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R&amp;D “Bucket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49440" y="1833480"/>
            <a:ext cx="7884720" cy="2891520"/>
            <a:chOff x="649440" y="1833480"/>
            <a:chExt cx="7884720" cy="2891520"/>
          </a:xfrm>
        </p:grpSpPr>
        <p:sp>
          <p:nvSpPr>
            <p:cNvPr id="205" name="AutoShape 8"/>
            <p:cNvSpPr/>
            <p:nvPr/>
          </p:nvSpPr>
          <p:spPr>
            <a:xfrm>
              <a:off x="7232400" y="3469320"/>
              <a:ext cx="130176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4080600" y="3469320"/>
              <a:ext cx="150696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est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2230560" y="3469320"/>
              <a:ext cx="150696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vestme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eakth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2162160" y="3218040"/>
              <a:ext cx="3494520" cy="144720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2"/>
            <p:cNvSpPr/>
            <p:nvPr/>
          </p:nvSpPr>
          <p:spPr>
            <a:xfrm>
              <a:off x="3463920" y="3972960"/>
              <a:ext cx="822240" cy="314280"/>
            </a:xfrm>
            <a:prstGeom prst="leftRightArrow">
              <a:avLst>
                <a:gd name="adj1" fmla="val 50000"/>
                <a:gd name="adj2" fmla="val 5208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3"/>
            <p:cNvSpPr/>
            <p:nvPr/>
          </p:nvSpPr>
          <p:spPr>
            <a:xfrm>
              <a:off x="2230560" y="2022120"/>
              <a:ext cx="130140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PA M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y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4"/>
            <p:cNvSpPr/>
            <p:nvPr/>
          </p:nvSpPr>
          <p:spPr>
            <a:xfrm>
              <a:off x="3601080" y="2022120"/>
              <a:ext cx="130176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/EP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 Ot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"/>
            <p:cNvSpPr/>
            <p:nvPr/>
          </p:nvSpPr>
          <p:spPr>
            <a:xfrm>
              <a:off x="6341760" y="2022120"/>
              <a:ext cx="102780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6"/>
            <p:cNvSpPr/>
            <p:nvPr/>
          </p:nvSpPr>
          <p:spPr>
            <a:xfrm>
              <a:off x="4971240" y="2022120"/>
              <a:ext cx="130176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e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ss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e.g., La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7"/>
            <p:cNvSpPr/>
            <p:nvPr/>
          </p:nvSpPr>
          <p:spPr>
            <a:xfrm>
              <a:off x="7437960" y="2022120"/>
              <a:ext cx="102780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803880" y="3533760"/>
              <a:ext cx="1180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an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fol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649440" y="1833480"/>
              <a:ext cx="1523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le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3324960" y="431784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de 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2"/>
            <p:cNvSpPr/>
            <p:nvPr/>
          </p:nvSpPr>
          <p:spPr>
            <a:xfrm>
              <a:off x="5793480" y="3469320"/>
              <a:ext cx="1301760" cy="8809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% Reser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B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51600" y="4981680"/>
            <a:ext cx="7227000" cy="1191240"/>
            <a:chOff x="651600" y="4981680"/>
            <a:chExt cx="7227000" cy="1191240"/>
          </a:xfrm>
        </p:grpSpPr>
        <p:sp>
          <p:nvSpPr>
            <p:cNvPr id="220" name="AutoShape 5"/>
            <p:cNvSpPr/>
            <p:nvPr/>
          </p:nvSpPr>
          <p:spPr>
            <a:xfrm>
              <a:off x="6552000" y="5073480"/>
              <a:ext cx="1326600" cy="64152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51600" y="4981680"/>
              <a:ext cx="5963040" cy="1191240"/>
              <a:chOff x="651600" y="4981680"/>
              <a:chExt cx="5963040" cy="1191240"/>
            </a:xfrm>
          </p:grpSpPr>
          <p:sp>
            <p:nvSpPr>
              <p:cNvPr id="222" name="AutoShape 3"/>
              <p:cNvSpPr/>
              <p:nvPr/>
            </p:nvSpPr>
            <p:spPr>
              <a:xfrm>
                <a:off x="2635200" y="5073480"/>
                <a:ext cx="1326240" cy="64152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$$$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4"/>
              <p:cNvSpPr/>
              <p:nvPr/>
            </p:nvSpPr>
            <p:spPr>
              <a:xfrm>
                <a:off x="4656600" y="5073480"/>
                <a:ext cx="1326240" cy="64152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$$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6"/>
              <p:cNvSpPr/>
              <p:nvPr/>
            </p:nvSpPr>
            <p:spPr>
              <a:xfrm>
                <a:off x="3961800" y="5302440"/>
                <a:ext cx="694440" cy="228960"/>
              </a:xfrm>
              <a:prstGeom prst="leftArrow">
                <a:avLst>
                  <a:gd name="adj1" fmla="val 50000"/>
                  <a:gd name="adj2" fmla="val 7582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5920200" y="5302440"/>
                <a:ext cx="694440" cy="228960"/>
              </a:xfrm>
              <a:prstGeom prst="leftArrow">
                <a:avLst>
                  <a:gd name="adj1" fmla="val 50000"/>
                  <a:gd name="adj2" fmla="val 7582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9"/>
              <p:cNvSpPr/>
              <p:nvPr/>
            </p:nvSpPr>
            <p:spPr>
              <a:xfrm>
                <a:off x="651600" y="4981680"/>
                <a:ext cx="1538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prov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ffectiven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 R&amp;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23"/>
            <p:cNvSpPr/>
            <p:nvPr/>
          </p:nvSpPr>
          <p:spPr>
            <a:xfrm>
              <a:off x="4141080" y="572256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ze of Project Inves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4"/>
          <p:cNvSpPr/>
          <p:nvPr/>
        </p:nvSpPr>
        <p:spPr>
          <a:xfrm>
            <a:off x="306000" y="63972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ortfolio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nnual Portfolio Rebalancing Cy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914400" y="1671480"/>
            <a:ext cx="2239920" cy="8431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Rank Ex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folio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dentify Weak Pro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558880" y="2743200"/>
            <a:ext cx="1555920" cy="933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Create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admap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014720" y="3979800"/>
            <a:ext cx="1854360" cy="6685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Solicit Propo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ernal/Exter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6399360" y="4708440"/>
            <a:ext cx="1654200" cy="8510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Proposal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464160" y="3008160"/>
            <a:ext cx="1522440" cy="103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TI Coun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bal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8"/>
          <p:cNvCxnSpPr>
            <a:stCxn id="230" idx="2"/>
            <a:endCxn id="231" idx="1"/>
          </p:cNvCxnSpPr>
          <p:nvPr/>
        </p:nvCxnSpPr>
        <p:spPr>
          <a:xfrm flipH="1" rot="16200000">
            <a:off x="1948320" y="2599560"/>
            <a:ext cx="695520" cy="52416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36" name="AutoShape 9"/>
          <p:cNvCxnSpPr>
            <a:stCxn id="231" idx="2"/>
            <a:endCxn id="232" idx="1"/>
          </p:cNvCxnSpPr>
          <p:nvPr/>
        </p:nvCxnSpPr>
        <p:spPr>
          <a:xfrm flipH="1" rot="16200000">
            <a:off x="3355560" y="3656520"/>
            <a:ext cx="639000" cy="67860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37" name="AutoShape 10"/>
          <p:cNvCxnSpPr>
            <a:stCxn id="232" idx="2"/>
            <a:endCxn id="233" idx="1"/>
          </p:cNvCxnSpPr>
          <p:nvPr/>
        </p:nvCxnSpPr>
        <p:spPr>
          <a:xfrm flipH="1" rot="16200000">
            <a:off x="5426640" y="4161960"/>
            <a:ext cx="486360" cy="145836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38" name="AutoShape 11"/>
          <p:cNvCxnSpPr>
            <a:stCxn id="234" idx="0"/>
            <a:endCxn id="239" idx="3"/>
          </p:cNvCxnSpPr>
          <p:nvPr/>
        </p:nvCxnSpPr>
        <p:spPr>
          <a:xfrm flipV="1" rot="16200000">
            <a:off x="6289920" y="2071440"/>
            <a:ext cx="911880" cy="96120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40" name="AutoShape 12"/>
          <p:cNvCxnSpPr>
            <a:stCxn id="233" idx="0"/>
            <a:endCxn id="234" idx="2"/>
          </p:cNvCxnSpPr>
          <p:nvPr/>
        </p:nvCxnSpPr>
        <p:spPr>
          <a:xfrm flipV="1">
            <a:off x="7225920" y="4039920"/>
            <a:ext cx="1080" cy="6688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41" name="AutoShape 13"/>
          <p:cNvCxnSpPr>
            <a:stCxn id="239" idx="1"/>
            <a:endCxn id="230" idx="3"/>
          </p:cNvCxnSpPr>
          <p:nvPr/>
        </p:nvCxnSpPr>
        <p:spPr>
          <a:xfrm flipH="1" flipV="1">
            <a:off x="3153960" y="2093040"/>
            <a:ext cx="1391040" cy="39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9" name="Rectangle 14"/>
          <p:cNvSpPr/>
          <p:nvPr/>
        </p:nvSpPr>
        <p:spPr>
          <a:xfrm>
            <a:off x="4545000" y="1793880"/>
            <a:ext cx="1720800" cy="606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Imp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533520" y="4572000"/>
            <a:ext cx="4103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 for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olicited proposals to be funded mid-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procedures for small projects (all projects must meet crite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3956400" y="1447920"/>
            <a:ext cx="29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to Annual Budget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06000" y="563400"/>
            <a:ext cx="187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ortfolio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tage Gate Repor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58560" y="2101680"/>
            <a:ext cx="8402760" cy="3157560"/>
            <a:chOff x="358560" y="2101680"/>
            <a:chExt cx="8402760" cy="3157560"/>
          </a:xfrm>
        </p:grpSpPr>
        <p:sp>
          <p:nvSpPr>
            <p:cNvPr id="247" name="AutoShape 3"/>
            <p:cNvSpPr/>
            <p:nvPr/>
          </p:nvSpPr>
          <p:spPr>
            <a:xfrm>
              <a:off x="3548160" y="4228920"/>
              <a:ext cx="282600" cy="597960"/>
            </a:xfrm>
            <a:prstGeom prst="upArrow">
              <a:avLst>
                <a:gd name="adj1" fmla="val 50000"/>
                <a:gd name="adj2" fmla="val 528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4"/>
            <p:cNvSpPr/>
            <p:nvPr/>
          </p:nvSpPr>
          <p:spPr>
            <a:xfrm>
              <a:off x="4891320" y="4228920"/>
              <a:ext cx="282600" cy="597960"/>
            </a:xfrm>
            <a:prstGeom prst="upArrow">
              <a:avLst>
                <a:gd name="adj1" fmla="val 50000"/>
                <a:gd name="adj2" fmla="val 528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5"/>
            <p:cNvSpPr/>
            <p:nvPr/>
          </p:nvSpPr>
          <p:spPr>
            <a:xfrm>
              <a:off x="6800040" y="4228920"/>
              <a:ext cx="282600" cy="597960"/>
            </a:xfrm>
            <a:prstGeom prst="upArrow">
              <a:avLst>
                <a:gd name="adj1" fmla="val 50000"/>
                <a:gd name="adj2" fmla="val 528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"/>
            <p:cNvSpPr/>
            <p:nvPr/>
          </p:nvSpPr>
          <p:spPr>
            <a:xfrm>
              <a:off x="358560" y="2898000"/>
              <a:ext cx="22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ysis of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ue Includ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"/>
            <p:cNvSpPr/>
            <p:nvPr/>
          </p:nvSpPr>
          <p:spPr>
            <a:xfrm>
              <a:off x="2700000" y="2167920"/>
              <a:ext cx="5796360" cy="1528560"/>
            </a:xfrm>
            <a:prstGeom prst="flowChartManualInpu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2700000" y="3231720"/>
              <a:ext cx="1002600" cy="464760"/>
            </a:xfrm>
            <a:prstGeom prst="rect">
              <a:avLst/>
            </a:prstGeom>
            <a:solidFill>
              <a:srgbClr val="ff7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3702960" y="3098520"/>
              <a:ext cx="1335600" cy="597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5032800" y="2766240"/>
              <a:ext cx="1921680" cy="930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g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6960600" y="2367360"/>
              <a:ext cx="1252800" cy="13291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g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2"/>
            <p:cNvSpPr/>
            <p:nvPr/>
          </p:nvSpPr>
          <p:spPr>
            <a:xfrm flipH="1">
              <a:off x="1002600" y="2101680"/>
              <a:ext cx="5937480" cy="731160"/>
            </a:xfrm>
            <a:custGeom>
              <a:avLst/>
              <a:gdLst>
                <a:gd name="textAreaLeft" fmla="*/ 1251000 w 5937480"/>
                <a:gd name="textAreaRight" fmla="*/ 4092120 w 5937480"/>
                <a:gd name="textAreaTop" fmla="*/ 97920 h 731160"/>
                <a:gd name="textAreaBottom" fmla="*/ 633240 h 73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106" hR="21600" stAng="10800000" swAng="5400000"/>
                  <a:lnTo>
                    <a:pt x="10335" y="0"/>
                  </a:lnTo>
                  <a:arcTo wR="9106" hR="21600" stAng="-5400000" swAng="3000813"/>
                  <a:lnTo>
                    <a:pt x="21079" y="14400"/>
                  </a:lnTo>
                  <a:lnTo>
                    <a:pt x="18826" y="21600"/>
                  </a:lnTo>
                  <a:lnTo>
                    <a:pt x="15530" y="14400"/>
                  </a:lnTo>
                  <a:lnTo>
                    <a:pt x="17690" y="14400"/>
                  </a:lnTo>
                  <a:arcTo wR="9106" hR="21600" stAng="-2399187" swAng="-2902815"/>
                  <a:lnTo>
                    <a:pt x="9720" y="49"/>
                  </a:lnTo>
                  <a:arcTo wR="9106" hR="21600" stAng="-5497998" swAng="-5302002"/>
                  <a:close/>
                </a:path>
                <a:path fill="darkenLess" w="21600" h="21600">
                  <a:moveTo>
                    <a:pt x="0" y="21600"/>
                  </a:moveTo>
                  <a:arcTo wR="9106" hR="21600" stAng="10800000" swAng="5400000"/>
                  <a:lnTo>
                    <a:pt x="9106" y="0"/>
                  </a:lnTo>
                  <a:arcTo wR="9106" hR="21600" stAng="-5400000" swAng="97998"/>
                  <a:lnTo>
                    <a:pt x="9720" y="49"/>
                  </a:lnTo>
                  <a:arcTo wR="9106" hR="21600" stAng="-5497998" swAng="-5302002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3"/>
            <p:cNvSpPr/>
            <p:nvPr/>
          </p:nvSpPr>
          <p:spPr>
            <a:xfrm>
              <a:off x="3056400" y="48909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Arial"/>
                </a:rPr>
                <a:t>Deci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4"/>
            <p:cNvSpPr/>
            <p:nvPr/>
          </p:nvSpPr>
          <p:spPr>
            <a:xfrm>
              <a:off x="4497480" y="48909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Arial"/>
                </a:rPr>
                <a:t>Decision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6051600" y="48909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Arial"/>
                </a:rPr>
                <a:t>Decision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6"/>
            <p:cNvSpPr/>
            <p:nvPr/>
          </p:nvSpPr>
          <p:spPr>
            <a:xfrm>
              <a:off x="2982960" y="3830040"/>
              <a:ext cx="523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 X Restructured as a Series of Stage G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7"/>
            <p:cNvSpPr/>
            <p:nvPr/>
          </p:nvSpPr>
          <p:spPr>
            <a:xfrm>
              <a:off x="8072280" y="4228920"/>
              <a:ext cx="282600" cy="597960"/>
            </a:xfrm>
            <a:prstGeom prst="upArrow">
              <a:avLst>
                <a:gd name="adj1" fmla="val 50000"/>
                <a:gd name="adj2" fmla="val 528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7437600" y="48909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Arial"/>
                </a:rPr>
                <a:t>Decision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2487960" y="5226120"/>
              <a:ext cx="586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2347920" y="4839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2696760" y="2446200"/>
              <a:ext cx="45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tion = quit, continue, expand,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579600" y="3429720"/>
              <a:ext cx="2624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PA ne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lation to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hievemen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liver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23"/>
          <p:cNvSpPr/>
          <p:nvPr/>
        </p:nvSpPr>
        <p:spPr>
          <a:xfrm>
            <a:off x="304560" y="63972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ojec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0:29:25Z</dcterms:created>
  <dc:creator>Terry Oliver</dc:creator>
  <dc:description/>
  <dc:language>en-US</dc:language>
  <cp:lastModifiedBy>Mark Roller</cp:lastModifiedBy>
  <dcterms:modified xsi:type="dcterms:W3CDTF">2009-04-27T18:51:08Z</dcterms:modified>
  <cp:revision>5</cp:revision>
  <dc:subject/>
  <dc:title>PowerPoint Presentation</dc:title>
</cp:coreProperties>
</file>