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0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7.wmf" ContentType="image/x-wmf"/>
  <Override PartName="/ppt/media/image15.wmf" ContentType="image/x-wmf"/>
  <Override PartName="/ppt/media/image14.png" ContentType="image/png"/>
  <Override PartName="/ppt/media/image2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3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97A0-9881-401E-8CB5-B019C55CB8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ftr" idx="3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 type="sldNum" idx="3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E9B6-3652-4A1F-B193-7DE3D82DC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67E8-4221-4CE7-BF3F-5D35D8D61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8E1D-671A-457A-99FE-5D4F5FCBD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BE0A-A9A8-43F4-AA35-B13C4C9F7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5ABA-79F7-47EC-BA18-722894BBA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jority (94%) of the respondents (46 responses representing 41 organizations) currently believe that there is a role for regional R D &amp;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985B-3AB4-453C-B1A4-64017551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7160" indent="-227160">
              <a:spcBef>
                <a:spcPts val="4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BPA leadership in Northwest EE inno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New EE measures to deliver many avg. M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Confidence in quality of new meas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Detailed supporting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Fast, cost-effective, sustainable mecha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spcBef>
                <a:spcPts val="4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Detailed, well-defined 5-year 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39C6-6DE4-4249-9BD3-DBD0998EB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999E-A0C9-4002-AE02-1D6BB4E6A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8C3E-3972-44AF-93E9-0846E473F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92E0-8B2A-433D-8620-ED87005B642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D9977F-225E-44B9-A813-6E147349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750C4F-6D2A-4D8C-A369-13DDD4DE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67C52C-8706-48CB-BD43-82E698CF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562C91-91C2-4C94-AD3F-B440C4B1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764865-DA81-43A6-87D0-90A2E29F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5596EA-BDA1-4BAF-9E97-BDE53FA0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53CD59-E830-4114-9C5E-53CA6CEF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393202-5A1E-4A98-B467-1A3AF6B1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DFF741-E154-485B-965D-43820C86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0D196-032A-4BDB-9BEA-C00A4508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F97BC-D692-4F82-8B53-B24901D4E72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AD045-C2B5-4F4E-AE49-1D06E7DE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8D490-74B3-49E7-9C32-9FE9411D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86FB8-B9AA-4B0A-9F2F-BD49C511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D9C86-0707-4CEA-BB1F-27062A78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CDC2A-C59C-4052-89A9-28A069BE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5DB1E-9B86-4D6D-83D9-19DC29ED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9D2CB-EB89-4697-AE0B-8DE9D25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6C6F7-386F-4C38-92C7-F4D830C5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6B8AC-20E1-44AC-BFD2-CEF14FE6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F87B1-9116-4EDD-A84D-82729127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EC72-026C-49D7-97DF-63C124FCF93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2F941-FBF2-4418-B674-2367977A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6E02B-49F8-450F-B959-E63F5FF8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07AC9-FFA3-4328-9C94-E12B054E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F1E77-4DDB-4450-8F31-2C597BF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84DD6-011F-45B9-B8D7-4178817F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48F37-0847-42D5-A6A1-ACF3467B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13ABE-FFD2-4FFA-803B-C946A08E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506C5-FF59-419C-9AC9-4F011997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4896A-D0DD-4846-8520-C0BDD9C0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39A1A-8768-493F-A7CD-9AD8A3C0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3C048-14B1-4146-9E60-61987ADB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E6666-9B02-42AB-91BE-7945EB83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F96F1-14AD-44D6-ABE8-EE57ECB0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5EA349-C82C-433B-BA3A-BF089BF2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9BA8FD-5E45-49D0-A8C7-9E30C153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AE0AB8-D4D7-4DCB-8457-9A790E36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506939-42F7-4574-A1F2-73CC6CAF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6966DB-103B-4C66-8437-FE7ECCF3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AE992C-88B4-4A41-83CD-5C28369A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858EEF-6810-4E51-9579-F7FE9A97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B03B85-A94B-4982-883D-F20AA37D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5C20CD-BD76-4A8C-A5B0-E7F55AF3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EEDA0D-01DD-4A71-B782-5A2004D8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EB4AAD-E2A9-47F8-B9A9-427F0BA8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E9B2A4-E6AF-413C-9BBE-93949EFE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8E6B-5251-4E5A-B6AC-7CD083F2D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91692-B875-428E-B526-4D05E3677F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0E732-7715-4B5A-8C46-826214AD8C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49F11-55ED-4500-A0BF-FA1CAD3A2E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42DAE-EC8B-4FDD-AA37-2A88EB0A15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3D221-67DA-4BF6-9A0C-E86A644ED8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FCE5-5620-4983-B011-972A923BA2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82454-6D26-40B3-ABE8-92A3036B82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3DC75-2D58-4CE4-A0D4-DCD4B79F4D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84598-93B9-4FF2-B976-8013B40C52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B9564-4C48-4C09-9CC1-CAF4010380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93132-2D22-4415-B3B9-7B75B50446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7185E-88C5-4B84-8973-88C7C4C6CD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E1A86-9B83-430F-8EDE-3343966F37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FBB40-87CA-430B-9C7F-7FD8633E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B3261B-B6CC-4DD3-8643-DB788714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1FF1E5-E508-4916-9430-FCBB28C6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8A51-3367-4E0C-8C5D-AD31276D30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62F682-384C-4E09-9DF1-5B419617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89B94-B0EF-4623-A6D4-148C0885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91917-5C6B-406E-93C9-8635A0C7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00DCCF-359B-4AA8-83BF-026C29E6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8501B-4B94-4D2C-B020-53FAEC14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439741-32F0-4890-A4FF-2DA65DC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45454B-17B5-4118-99A3-1A12BCF5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AB1B5-B214-4B70-ADF7-CC073D3F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36501-0E8D-4494-B318-885431ED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702A8-C03F-4B55-BEDD-B56C8791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71F4-2BA9-4F72-974B-C2A3A25BD2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1E2A53-114D-40CB-9492-79C424B2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5C019-6A35-4CC1-B641-869BE060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AAD93-CDA4-42BC-ACC2-9074CDEB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A0CB4-4A42-48C1-A2A9-25271396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53F998-02BB-4D64-96B0-BD424412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7AB8D8-C72C-482F-A9C4-8FC466C0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CAFAC-1897-4C58-970C-D651397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7E44D-9B50-472B-986E-0F30E27B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A0FD4-2C93-42DB-BBE5-B4B25BD2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361CB-6E71-4072-B83B-18D4B6D5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C9BE-379E-4B94-822E-78756D77D25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0B2303-B036-448B-878A-6549D93F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FA750D-C127-4DFB-8F94-EFCDB536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E9E88F-ED7D-444E-9706-2BB7F0D2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1AFFFC-6A77-42EB-8CA8-6AF924DF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23DB7E-9E80-41CE-B28A-4AA8DD6D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3C82FF-7AB8-499C-A0D6-B1AC9178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10A18C-81EE-4398-B18F-6EAED885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E98CA5-9540-4BDB-BCA7-1F603393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FB4C8A-04ED-4943-8370-484F6AAC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BF883E-1BEF-4C1B-9464-4FDF6E67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2E32-8741-4EA5-8033-4BA2156B06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88BDFC-AB71-41F5-8F89-3526005E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91DA88-1AFE-483D-ACB6-37F60A19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100000-FBC8-42A3-BA04-6E7CBFE7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8D9458-8EC9-4B86-B18A-E9C92358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12DCBD-1D7A-4EE2-B744-B260A76B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95ACC6-B53F-4717-9C69-42666987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079DEA-AEFA-455B-A24C-615138AD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087A94-93E1-42EF-8FE2-6DEFDD7A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B162D4-F3F8-4BBA-997B-3E486C5B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32B0AF-0B05-4CA3-A66B-07E5165C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1BE1-35F6-4B30-82D3-8EFC12EB253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5D5A49-040F-4741-8E75-B3B53426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78BCB4-8829-484D-B8CA-AB27FEC5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33A3EF-134F-4130-92E5-B9337750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5EFFCE-AD59-499A-9EB3-F2C85139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7E6316-017E-4C69-8CB4-6737B9F4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03145-BCB1-4973-9D83-C320641E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6C1ECD-7F26-410F-86E0-0E7884BC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C1620A-A484-46B2-A02D-FAF28622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7E533-2356-4B6A-BCE6-9E05E92D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5DF571-7B36-447D-BCF6-F0D686C0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2386-0846-4600-98C7-7E435508123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46040" y="5378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975507-42F7-4B0F-AFB1-7B8FBE18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737370-2369-40F8-8040-7E0C3D46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A1827D-6117-4181-9E65-38B9455E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75CB97-9265-4ADA-BD21-62C2839D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5EFBE6-EB56-432D-B9A9-7C7DF887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14E3AD-2468-4831-B85E-49A29C51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6FFA27-83F8-40D8-8520-F1A51882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197272-6637-4C92-B85F-F6FC6E3D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11CC55-15D2-4B32-88B6-B62779D9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26044E-549A-4807-AEEC-C7E04363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415200"/>
            <a:ext cx="8424720" cy="438120"/>
          </a:xfrm>
          <a:prstGeom prst="rect">
            <a:avLst/>
          </a:prstGeom>
          <a:solidFill>
            <a:srgbClr val="006260">
              <a:alpha val="34000"/>
            </a:srgbClr>
          </a:solidFill>
          <a:ln w="1584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609480" y="0"/>
            <a:ext cx="8534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723960" y="11268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B    O    N    N    E    V    I    L    L    E           P    O    W    E    R           A    D    M    I    N    I    S    T    R    A    T    I    O    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2"/>
          <p:cNvSpPr/>
          <p:nvPr/>
        </p:nvSpPr>
        <p:spPr>
          <a:xfrm>
            <a:off x="0" y="461880"/>
            <a:ext cx="9144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4104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502D-8C2B-4DD5-808A-29D71A7822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3" descr="BPA Logo.gif"/>
          <p:cNvPicPr/>
          <p:nvPr/>
        </p:nvPicPr>
        <p:blipFill>
          <a:blip r:embed="rId3"/>
          <a:stretch/>
        </p:blipFill>
        <p:spPr>
          <a:xfrm>
            <a:off x="0" y="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9" name="Line 12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BPA HQ1.jpg"/>
          <p:cNvPicPr/>
          <p:nvPr/>
        </p:nvPicPr>
        <p:blipFill>
          <a:blip r:embed="rId4"/>
          <a:stretch/>
        </p:blipFill>
        <p:spPr>
          <a:xfrm>
            <a:off x="8439120" y="6410160"/>
            <a:ext cx="704880" cy="443160"/>
          </a:xfrm>
          <a:prstGeom prst="rect">
            <a:avLst/>
          </a:prstGeom>
          <a:ln w="15840">
            <a:solidFill>
              <a:srgbClr val="006260"/>
            </a:solidFill>
            <a:miter/>
          </a:ln>
        </p:spPr>
      </p:pic>
      <p:sp>
        <p:nvSpPr>
          <p:cNvPr id="11" name="TextBox 12"/>
          <p:cNvSpPr/>
          <p:nvPr/>
        </p:nvSpPr>
        <p:spPr>
          <a:xfrm>
            <a:off x="3814560" y="64692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3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1"/>
          <p:cNvSpPr/>
          <p:nvPr/>
        </p:nvSpPr>
        <p:spPr>
          <a:xfrm>
            <a:off x="0" y="6415200"/>
            <a:ext cx="8424720" cy="438120"/>
          </a:xfrm>
          <a:prstGeom prst="rect">
            <a:avLst/>
          </a:prstGeom>
          <a:solidFill>
            <a:srgbClr val="006260">
              <a:alpha val="34000"/>
            </a:srgbClr>
          </a:solidFill>
          <a:ln w="1584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609480" y="0"/>
            <a:ext cx="8534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723960" y="11268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B    O    N    N    E    V    I    L    L    E           P    O    W    E    R           A    D    M    I    N    I    S    T    R    A    T    I    O    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0" y="461880"/>
            <a:ext cx="9144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3" descr="BPA Logo.gif"/>
          <p:cNvPicPr/>
          <p:nvPr/>
        </p:nvPicPr>
        <p:blipFill>
          <a:blip r:embed="rId3"/>
          <a:stretch/>
        </p:blipFill>
        <p:spPr>
          <a:xfrm>
            <a:off x="0" y="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435" name="Line 12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2" descr="BPA HQ1.jpg"/>
          <p:cNvPicPr/>
          <p:nvPr/>
        </p:nvPicPr>
        <p:blipFill>
          <a:blip r:embed="rId4"/>
          <a:stretch/>
        </p:blipFill>
        <p:spPr>
          <a:xfrm>
            <a:off x="8439120" y="6410160"/>
            <a:ext cx="704880" cy="443160"/>
          </a:xfrm>
          <a:prstGeom prst="rect">
            <a:avLst/>
          </a:prstGeom>
          <a:ln w="15840">
            <a:solidFill>
              <a:srgbClr val="006260"/>
            </a:solidFill>
            <a:miter/>
          </a:ln>
        </p:spPr>
      </p:pic>
      <p:sp>
        <p:nvSpPr>
          <p:cNvPr id="437" name="TextBox 12"/>
          <p:cNvSpPr/>
          <p:nvPr/>
        </p:nvSpPr>
        <p:spPr>
          <a:xfrm>
            <a:off x="3814560" y="64692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3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3"/>
          </p:nvPr>
        </p:nvSpPr>
        <p:spPr>
          <a:xfrm>
            <a:off x="5256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4"/>
          </p:nvPr>
        </p:nvSpPr>
        <p:spPr>
          <a:xfrm>
            <a:off x="4104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5"/>
          </p:nvPr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B74F-3C4B-4D52-978A-4496F31D85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1"/>
          <p:cNvSpPr/>
          <p:nvPr/>
        </p:nvSpPr>
        <p:spPr>
          <a:xfrm>
            <a:off x="0" y="6415200"/>
            <a:ext cx="8424720" cy="438120"/>
          </a:xfrm>
          <a:prstGeom prst="rect">
            <a:avLst/>
          </a:prstGeom>
          <a:solidFill>
            <a:srgbClr val="006260">
              <a:alpha val="34000"/>
            </a:srgbClr>
          </a:solidFill>
          <a:ln w="1584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09480" y="0"/>
            <a:ext cx="8534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1"/>
          <p:cNvSpPr/>
          <p:nvPr/>
        </p:nvSpPr>
        <p:spPr>
          <a:xfrm>
            <a:off x="723960" y="11268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B    O    N    N    E    V    I    L    L    E           P    O    W    E    R           A    D    M    I    N    I    S    T    R    A    T    I    O    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2"/>
          <p:cNvSpPr/>
          <p:nvPr/>
        </p:nvSpPr>
        <p:spPr>
          <a:xfrm>
            <a:off x="0" y="461880"/>
            <a:ext cx="9144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3" descr="BPA Logo.gif"/>
          <p:cNvPicPr/>
          <p:nvPr/>
        </p:nvPicPr>
        <p:blipFill>
          <a:blip r:embed="rId3"/>
          <a:stretch/>
        </p:blipFill>
        <p:spPr>
          <a:xfrm>
            <a:off x="0" y="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484" name="Line 12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2" descr="BPA HQ1.jpg"/>
          <p:cNvPicPr/>
          <p:nvPr/>
        </p:nvPicPr>
        <p:blipFill>
          <a:blip r:embed="rId4"/>
          <a:stretch/>
        </p:blipFill>
        <p:spPr>
          <a:xfrm>
            <a:off x="8439120" y="6410160"/>
            <a:ext cx="704880" cy="443160"/>
          </a:xfrm>
          <a:prstGeom prst="rect">
            <a:avLst/>
          </a:prstGeom>
          <a:ln w="15840">
            <a:solidFill>
              <a:srgbClr val="006260"/>
            </a:solidFill>
            <a:miter/>
          </a:ln>
        </p:spPr>
      </p:pic>
      <p:sp>
        <p:nvSpPr>
          <p:cNvPr id="486" name="TextBox 12"/>
          <p:cNvSpPr/>
          <p:nvPr/>
        </p:nvSpPr>
        <p:spPr>
          <a:xfrm>
            <a:off x="3814560" y="64692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3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6"/>
          </p:nvPr>
        </p:nvSpPr>
        <p:spPr>
          <a:xfrm>
            <a:off x="5256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7"/>
          </p:nvPr>
        </p:nvSpPr>
        <p:spPr>
          <a:xfrm>
            <a:off x="4104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8"/>
          </p:nvPr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C9CD-A906-4FCC-A03C-973A94F8056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1"/>
          <p:cNvSpPr/>
          <p:nvPr/>
        </p:nvSpPr>
        <p:spPr>
          <a:xfrm>
            <a:off x="0" y="6415200"/>
            <a:ext cx="8424720" cy="438120"/>
          </a:xfrm>
          <a:prstGeom prst="rect">
            <a:avLst/>
          </a:prstGeom>
          <a:solidFill>
            <a:srgbClr val="006260">
              <a:alpha val="34000"/>
            </a:srgbClr>
          </a:solidFill>
          <a:ln w="1584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609480" y="0"/>
            <a:ext cx="8534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723960" y="11268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B    O    N    N    E    V    I    L    L    E           P    O    W    E    R           A    D    M    I    N    I    S    T    R    A    T    I    O    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2"/>
          <p:cNvSpPr/>
          <p:nvPr/>
        </p:nvSpPr>
        <p:spPr>
          <a:xfrm>
            <a:off x="0" y="461880"/>
            <a:ext cx="9144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3" descr="BPA Logo.gif"/>
          <p:cNvPicPr/>
          <p:nvPr/>
        </p:nvPicPr>
        <p:blipFill>
          <a:blip r:embed="rId3"/>
          <a:stretch/>
        </p:blipFill>
        <p:spPr>
          <a:xfrm>
            <a:off x="0" y="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533" name="Line 12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2" descr="BPA HQ1.jpg"/>
          <p:cNvPicPr/>
          <p:nvPr/>
        </p:nvPicPr>
        <p:blipFill>
          <a:blip r:embed="rId4"/>
          <a:stretch/>
        </p:blipFill>
        <p:spPr>
          <a:xfrm>
            <a:off x="8439120" y="6410160"/>
            <a:ext cx="704880" cy="443160"/>
          </a:xfrm>
          <a:prstGeom prst="rect">
            <a:avLst/>
          </a:prstGeom>
          <a:ln w="15840">
            <a:solidFill>
              <a:srgbClr val="006260"/>
            </a:solidFill>
            <a:miter/>
          </a:ln>
        </p:spPr>
      </p:pic>
      <p:sp>
        <p:nvSpPr>
          <p:cNvPr id="535" name="TextBox 12"/>
          <p:cNvSpPr/>
          <p:nvPr/>
        </p:nvSpPr>
        <p:spPr>
          <a:xfrm>
            <a:off x="3814560" y="64692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3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9"/>
          </p:nvPr>
        </p:nvSpPr>
        <p:spPr>
          <a:xfrm>
            <a:off x="5256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0"/>
          </p:nvPr>
        </p:nvSpPr>
        <p:spPr>
          <a:xfrm>
            <a:off x="4104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1"/>
          </p:nvPr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B357-166A-4F8F-BEE4-3CEBE1B09A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304920" y="228600"/>
            <a:ext cx="8610480" cy="6324480"/>
          </a:xfrm>
          <a:prstGeom prst="roundRect">
            <a:avLst>
              <a:gd name="adj" fmla="val 16667"/>
            </a:avLst>
          </a:prstGeom>
          <a:solidFill>
            <a:srgbClr val="006260">
              <a:alpha val="2000"/>
            </a:srgbClr>
          </a:soli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BPA Logo.gif"/>
          <p:cNvPicPr/>
          <p:nvPr/>
        </p:nvPicPr>
        <p:blipFill>
          <a:blip r:embed="rId2"/>
          <a:stretch/>
        </p:blipFill>
        <p:spPr>
          <a:xfrm>
            <a:off x="754200" y="5619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1"/>
          <p:cNvSpPr/>
          <p:nvPr/>
        </p:nvSpPr>
        <p:spPr>
          <a:xfrm>
            <a:off x="0" y="6415200"/>
            <a:ext cx="8424720" cy="438120"/>
          </a:xfrm>
          <a:prstGeom prst="rect">
            <a:avLst/>
          </a:prstGeom>
          <a:solidFill>
            <a:srgbClr val="006260">
              <a:alpha val="34000"/>
            </a:srgbClr>
          </a:solidFill>
          <a:ln w="1584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09480" y="0"/>
            <a:ext cx="8534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23960" y="11268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B    O    N    N    E    V    I    L    L    E           P    O    W    E    R           A    D    M    I    N    I    S    T    R    A    T    I    O    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0" y="461880"/>
            <a:ext cx="9144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BPA Logo.gif"/>
          <p:cNvPicPr/>
          <p:nvPr/>
        </p:nvPicPr>
        <p:blipFill>
          <a:blip r:embed="rId3"/>
          <a:stretch/>
        </p:blipFill>
        <p:spPr>
          <a:xfrm>
            <a:off x="0" y="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93" name="Line 12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BPA HQ1.jpg"/>
          <p:cNvPicPr/>
          <p:nvPr/>
        </p:nvPicPr>
        <p:blipFill>
          <a:blip r:embed="rId4"/>
          <a:stretch/>
        </p:blipFill>
        <p:spPr>
          <a:xfrm>
            <a:off x="8439120" y="6410160"/>
            <a:ext cx="704880" cy="443160"/>
          </a:xfrm>
          <a:prstGeom prst="rect">
            <a:avLst/>
          </a:prstGeom>
          <a:ln w="15840">
            <a:solidFill>
              <a:srgbClr val="006260"/>
            </a:solidFill>
            <a:miter/>
          </a:ln>
        </p:spPr>
      </p:pic>
      <p:sp>
        <p:nvSpPr>
          <p:cNvPr id="95" name="TextBox 12"/>
          <p:cNvSpPr/>
          <p:nvPr/>
        </p:nvSpPr>
        <p:spPr>
          <a:xfrm>
            <a:off x="3814560" y="64692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3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3"/>
          </p:nvPr>
        </p:nvSpPr>
        <p:spPr>
          <a:xfrm>
            <a:off x="4104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4"/>
          </p:nvPr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4F25-8325-4449-B477-C4E8FB8CEB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1"/>
          <p:cNvSpPr/>
          <p:nvPr/>
        </p:nvSpPr>
        <p:spPr>
          <a:xfrm>
            <a:off x="0" y="6415200"/>
            <a:ext cx="8424720" cy="438120"/>
          </a:xfrm>
          <a:prstGeom prst="rect">
            <a:avLst/>
          </a:prstGeom>
          <a:solidFill>
            <a:srgbClr val="006260">
              <a:alpha val="34000"/>
            </a:srgbClr>
          </a:solidFill>
          <a:ln w="1584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09480" y="0"/>
            <a:ext cx="8534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723960" y="11268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B    O    N    N    E    V    I    L    L    E           P    O    W    E    R           A    D    M    I    N    I    S    T    R    A    T    I    O    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0" y="461880"/>
            <a:ext cx="9144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BPA Logo.gif"/>
          <p:cNvPicPr/>
          <p:nvPr/>
        </p:nvPicPr>
        <p:blipFill>
          <a:blip r:embed="rId3"/>
          <a:stretch/>
        </p:blipFill>
        <p:spPr>
          <a:xfrm>
            <a:off x="0" y="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141" name="Line 12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BPA HQ1.jpg"/>
          <p:cNvPicPr/>
          <p:nvPr/>
        </p:nvPicPr>
        <p:blipFill>
          <a:blip r:embed="rId4"/>
          <a:stretch/>
        </p:blipFill>
        <p:spPr>
          <a:xfrm>
            <a:off x="8439120" y="6410160"/>
            <a:ext cx="704880" cy="443160"/>
          </a:xfrm>
          <a:prstGeom prst="rect">
            <a:avLst/>
          </a:prstGeom>
          <a:ln w="15840">
            <a:solidFill>
              <a:srgbClr val="006260"/>
            </a:solidFill>
            <a:miter/>
          </a:ln>
        </p:spPr>
      </p:pic>
      <p:sp>
        <p:nvSpPr>
          <p:cNvPr id="143" name="TextBox 12"/>
          <p:cNvSpPr/>
          <p:nvPr/>
        </p:nvSpPr>
        <p:spPr>
          <a:xfrm>
            <a:off x="3814560" y="64692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3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5"/>
          </p:nvPr>
        </p:nvSpPr>
        <p:spPr>
          <a:xfrm>
            <a:off x="5256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6"/>
          </p:nvPr>
        </p:nvSpPr>
        <p:spPr>
          <a:xfrm>
            <a:off x="4104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7"/>
          </p:nvPr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7E48-8FE5-484D-998C-890985E3E5F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1"/>
          <p:cNvSpPr/>
          <p:nvPr/>
        </p:nvSpPr>
        <p:spPr>
          <a:xfrm>
            <a:off x="0" y="6415200"/>
            <a:ext cx="8424720" cy="438120"/>
          </a:xfrm>
          <a:prstGeom prst="rect">
            <a:avLst/>
          </a:prstGeom>
          <a:solidFill>
            <a:srgbClr val="006260">
              <a:alpha val="34000"/>
            </a:srgbClr>
          </a:solidFill>
          <a:ln w="1584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09480" y="0"/>
            <a:ext cx="8534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723960" y="11268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B    O    N    N    E    V    I    L    L    E           P    O    W    E    R           A    D    M    I    N    I    S    T    R    A    T    I    O    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0" y="461880"/>
            <a:ext cx="9144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BPA Logo.gif"/>
          <p:cNvPicPr/>
          <p:nvPr/>
        </p:nvPicPr>
        <p:blipFill>
          <a:blip r:embed="rId3"/>
          <a:stretch/>
        </p:blipFill>
        <p:spPr>
          <a:xfrm>
            <a:off x="0" y="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190" name="Line 12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BPA HQ1.jpg"/>
          <p:cNvPicPr/>
          <p:nvPr/>
        </p:nvPicPr>
        <p:blipFill>
          <a:blip r:embed="rId4"/>
          <a:stretch/>
        </p:blipFill>
        <p:spPr>
          <a:xfrm>
            <a:off x="8439120" y="6410160"/>
            <a:ext cx="704880" cy="443160"/>
          </a:xfrm>
          <a:prstGeom prst="rect">
            <a:avLst/>
          </a:prstGeom>
          <a:ln w="15840">
            <a:solidFill>
              <a:srgbClr val="006260"/>
            </a:solidFill>
            <a:miter/>
          </a:ln>
        </p:spPr>
      </p:pic>
      <p:sp>
        <p:nvSpPr>
          <p:cNvPr id="192" name="TextBox 12"/>
          <p:cNvSpPr/>
          <p:nvPr/>
        </p:nvSpPr>
        <p:spPr>
          <a:xfrm>
            <a:off x="3814560" y="64692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3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8"/>
          </p:nvPr>
        </p:nvSpPr>
        <p:spPr>
          <a:xfrm>
            <a:off x="5256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9"/>
          </p:nvPr>
        </p:nvSpPr>
        <p:spPr>
          <a:xfrm>
            <a:off x="4104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0"/>
          </p:nvPr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FDAF-62AE-4D70-B7C5-C5BD93D729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0" y="6415200"/>
            <a:ext cx="8424720" cy="438120"/>
          </a:xfrm>
          <a:prstGeom prst="rect">
            <a:avLst/>
          </a:prstGeom>
          <a:solidFill>
            <a:srgbClr val="006260">
              <a:alpha val="34000"/>
            </a:srgbClr>
          </a:solidFill>
          <a:ln w="1584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09480" y="0"/>
            <a:ext cx="8534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723960" y="11268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B    O    N    N    E    V    I    L    L    E           P    O    W    E    R           A    D    M    I    N    I    S    T    R    A    T    I    O    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0" y="461880"/>
            <a:ext cx="9144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3" descr="BPA Logo.gif"/>
          <p:cNvPicPr/>
          <p:nvPr/>
        </p:nvPicPr>
        <p:blipFill>
          <a:blip r:embed="rId3"/>
          <a:stretch/>
        </p:blipFill>
        <p:spPr>
          <a:xfrm>
            <a:off x="0" y="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239" name="Line 12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BPA HQ1.jpg"/>
          <p:cNvPicPr/>
          <p:nvPr/>
        </p:nvPicPr>
        <p:blipFill>
          <a:blip r:embed="rId4"/>
          <a:stretch/>
        </p:blipFill>
        <p:spPr>
          <a:xfrm>
            <a:off x="8439120" y="6410160"/>
            <a:ext cx="704880" cy="443160"/>
          </a:xfrm>
          <a:prstGeom prst="rect">
            <a:avLst/>
          </a:prstGeom>
          <a:ln w="15840">
            <a:solidFill>
              <a:srgbClr val="006260"/>
            </a:solidFill>
            <a:miter/>
          </a:ln>
        </p:spPr>
      </p:pic>
      <p:sp>
        <p:nvSpPr>
          <p:cNvPr id="241" name="TextBox 12"/>
          <p:cNvSpPr/>
          <p:nvPr/>
        </p:nvSpPr>
        <p:spPr>
          <a:xfrm>
            <a:off x="3814560" y="64692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3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1"/>
          </p:nvPr>
        </p:nvSpPr>
        <p:spPr>
          <a:xfrm>
            <a:off x="5256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2"/>
          </p:nvPr>
        </p:nvSpPr>
        <p:spPr>
          <a:xfrm>
            <a:off x="4104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3"/>
          </p:nvPr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BE3A-6451-4E6D-9F63-FEF2C697451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1"/>
          <p:cNvSpPr/>
          <p:nvPr/>
        </p:nvSpPr>
        <p:spPr>
          <a:xfrm>
            <a:off x="0" y="6415200"/>
            <a:ext cx="8424720" cy="438120"/>
          </a:xfrm>
          <a:prstGeom prst="rect">
            <a:avLst/>
          </a:prstGeom>
          <a:solidFill>
            <a:srgbClr val="006260">
              <a:alpha val="34000"/>
            </a:srgbClr>
          </a:solidFill>
          <a:ln w="1584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609480" y="0"/>
            <a:ext cx="8534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723960" y="11268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B    O    N    N    E    V    I    L    L    E           P    O    W    E    R           A    D    M    I    N    I    S    T    R    A    T    I    O    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0" y="461880"/>
            <a:ext cx="9144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3" descr="BPA Logo.gif"/>
          <p:cNvPicPr/>
          <p:nvPr/>
        </p:nvPicPr>
        <p:blipFill>
          <a:blip r:embed="rId3"/>
          <a:stretch/>
        </p:blipFill>
        <p:spPr>
          <a:xfrm>
            <a:off x="0" y="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288" name="Line 12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2" descr="BPA HQ1.jpg"/>
          <p:cNvPicPr/>
          <p:nvPr/>
        </p:nvPicPr>
        <p:blipFill>
          <a:blip r:embed="rId4"/>
          <a:stretch/>
        </p:blipFill>
        <p:spPr>
          <a:xfrm>
            <a:off x="8439120" y="6410160"/>
            <a:ext cx="704880" cy="443160"/>
          </a:xfrm>
          <a:prstGeom prst="rect">
            <a:avLst/>
          </a:prstGeom>
          <a:ln w="15840">
            <a:solidFill>
              <a:srgbClr val="006260"/>
            </a:solidFill>
            <a:miter/>
          </a:ln>
        </p:spPr>
      </p:pic>
      <p:sp>
        <p:nvSpPr>
          <p:cNvPr id="290" name="TextBox 12"/>
          <p:cNvSpPr/>
          <p:nvPr/>
        </p:nvSpPr>
        <p:spPr>
          <a:xfrm>
            <a:off x="3814560" y="64692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3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4"/>
          </p:nvPr>
        </p:nvSpPr>
        <p:spPr>
          <a:xfrm>
            <a:off x="5256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5"/>
          </p:nvPr>
        </p:nvSpPr>
        <p:spPr>
          <a:xfrm>
            <a:off x="4104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6"/>
          </p:nvPr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E90E-921D-4318-BDDF-A6F4BB12C2D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1"/>
          <p:cNvSpPr/>
          <p:nvPr/>
        </p:nvSpPr>
        <p:spPr>
          <a:xfrm>
            <a:off x="0" y="6415200"/>
            <a:ext cx="8424720" cy="438120"/>
          </a:xfrm>
          <a:prstGeom prst="rect">
            <a:avLst/>
          </a:prstGeom>
          <a:solidFill>
            <a:srgbClr val="006260">
              <a:alpha val="34000"/>
            </a:srgbClr>
          </a:solidFill>
          <a:ln w="1584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609480" y="0"/>
            <a:ext cx="8534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723960" y="11268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B    O    N    N    E    V    I    L    L    E           P    O    W    E    R           A    D    M    I    N    I    S    T    R    A    T    I    O    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0" y="461880"/>
            <a:ext cx="9144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3" descr="BPA Logo.gif"/>
          <p:cNvPicPr/>
          <p:nvPr/>
        </p:nvPicPr>
        <p:blipFill>
          <a:blip r:embed="rId3"/>
          <a:stretch/>
        </p:blipFill>
        <p:spPr>
          <a:xfrm>
            <a:off x="0" y="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337" name="Line 12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2" descr="BPA HQ1.jpg"/>
          <p:cNvPicPr/>
          <p:nvPr/>
        </p:nvPicPr>
        <p:blipFill>
          <a:blip r:embed="rId4"/>
          <a:stretch/>
        </p:blipFill>
        <p:spPr>
          <a:xfrm>
            <a:off x="8439120" y="6410160"/>
            <a:ext cx="704880" cy="443160"/>
          </a:xfrm>
          <a:prstGeom prst="rect">
            <a:avLst/>
          </a:prstGeom>
          <a:ln w="15840">
            <a:solidFill>
              <a:srgbClr val="006260"/>
            </a:solidFill>
            <a:miter/>
          </a:ln>
        </p:spPr>
      </p:pic>
      <p:sp>
        <p:nvSpPr>
          <p:cNvPr id="339" name="TextBox 12"/>
          <p:cNvSpPr/>
          <p:nvPr/>
        </p:nvSpPr>
        <p:spPr>
          <a:xfrm>
            <a:off x="3814560" y="64692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3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5256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4104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A2F6-A639-4637-A191-44802E0727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1"/>
          <p:cNvSpPr/>
          <p:nvPr/>
        </p:nvSpPr>
        <p:spPr>
          <a:xfrm>
            <a:off x="0" y="6415200"/>
            <a:ext cx="8424720" cy="438120"/>
          </a:xfrm>
          <a:prstGeom prst="rect">
            <a:avLst/>
          </a:prstGeom>
          <a:solidFill>
            <a:srgbClr val="006260">
              <a:alpha val="34000"/>
            </a:srgbClr>
          </a:solidFill>
          <a:ln w="15840">
            <a:solidFill>
              <a:srgbClr val="0062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609480" y="0"/>
            <a:ext cx="8534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723960" y="11268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B    O    N    N    E    V    I    L    L    E           P    O    W    E    R           A    D    M    I    N    I    S    T    R    A    T    I    O    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0" y="461880"/>
            <a:ext cx="9144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3" descr="BPA Logo.gif"/>
          <p:cNvPicPr/>
          <p:nvPr/>
        </p:nvPicPr>
        <p:blipFill>
          <a:blip r:embed="rId3"/>
          <a:stretch/>
        </p:blipFill>
        <p:spPr>
          <a:xfrm>
            <a:off x="0" y="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386" name="Line 12"/>
          <p:cNvSpPr/>
          <p:nvPr/>
        </p:nvSpPr>
        <p:spPr>
          <a:xfrm>
            <a:off x="0" y="495360"/>
            <a:ext cx="914400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2" descr="BPA HQ1.jpg"/>
          <p:cNvPicPr/>
          <p:nvPr/>
        </p:nvPicPr>
        <p:blipFill>
          <a:blip r:embed="rId4"/>
          <a:stretch/>
        </p:blipFill>
        <p:spPr>
          <a:xfrm>
            <a:off x="8439120" y="6410160"/>
            <a:ext cx="704880" cy="443160"/>
          </a:xfrm>
          <a:prstGeom prst="rect">
            <a:avLst/>
          </a:prstGeom>
          <a:ln w="15840">
            <a:solidFill>
              <a:srgbClr val="006260"/>
            </a:solidFill>
            <a:miter/>
          </a:ln>
        </p:spPr>
      </p:pic>
      <p:sp>
        <p:nvSpPr>
          <p:cNvPr id="388" name="TextBox 12"/>
          <p:cNvSpPr/>
          <p:nvPr/>
        </p:nvSpPr>
        <p:spPr>
          <a:xfrm>
            <a:off x="3814560" y="64692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3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5256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1"/>
          </p:nvPr>
        </p:nvSpPr>
        <p:spPr>
          <a:xfrm>
            <a:off x="4104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2"/>
          </p:nvPr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7889-AB38-4F05-94E5-C8801C84E66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Emerging Energy </a:t>
            </a:r>
            <a:br>
              <a:rPr sz="3200"/>
            </a:b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Efficiency Technologies </a:t>
            </a:r>
            <a:br>
              <a:rPr sz="3200"/>
            </a:b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E3T</a:t>
            </a: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)</a:t>
            </a:r>
            <a:br>
              <a:rPr sz="4000"/>
            </a:br>
            <a:r>
              <a:rPr b="1" i="1" lang="en-US" sz="2400" spc="-1" strike="noStrike">
                <a:solidFill>
                  <a:srgbClr val="1f497d"/>
                </a:solidFill>
                <a:latin typeface="Gill Sans MT"/>
              </a:rPr>
              <a:t>Filling the Pipeline for Tomorrow’s Energy Efficiency Program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85" name="TextBox 2"/>
          <p:cNvSpPr/>
          <p:nvPr/>
        </p:nvSpPr>
        <p:spPr>
          <a:xfrm>
            <a:off x="762120" y="4724280"/>
            <a:ext cx="6629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est Energy Efficiency Taskforce </a:t>
            </a: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 Group #2 - Emerging Solutions and Technologies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ril 26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ounded Rectangle 15"/>
          <p:cNvSpPr/>
          <p:nvPr/>
        </p:nvSpPr>
        <p:spPr>
          <a:xfrm>
            <a:off x="257040" y="1143000"/>
            <a:ext cx="8610840" cy="5105520"/>
          </a:xfrm>
          <a:prstGeom prst="roundRect">
            <a:avLst>
              <a:gd name="adj" fmla="val 16667"/>
            </a:avLst>
          </a:prstGeom>
          <a:solidFill>
            <a:srgbClr val="ffffcc">
              <a:alpha val="6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chnical Advisory Group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29" name="Rounded Rectangle 4"/>
          <p:cNvSpPr/>
          <p:nvPr/>
        </p:nvSpPr>
        <p:spPr>
          <a:xfrm>
            <a:off x="6286680" y="1400040"/>
            <a:ext cx="1992240" cy="8096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f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Comput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ounded Rectangle 5"/>
          <p:cNvSpPr/>
          <p:nvPr/>
        </p:nvSpPr>
        <p:spPr>
          <a:xfrm>
            <a:off x="762120" y="2552760"/>
            <a:ext cx="1992240" cy="8110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f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Commercial Bui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ounded Rectangle 6"/>
          <p:cNvSpPr/>
          <p:nvPr/>
        </p:nvSpPr>
        <p:spPr>
          <a:xfrm>
            <a:off x="762120" y="3732120"/>
            <a:ext cx="1992240" cy="8128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f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Residential Bui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ounded Rectangle 7"/>
          <p:cNvSpPr/>
          <p:nvPr/>
        </p:nvSpPr>
        <p:spPr>
          <a:xfrm>
            <a:off x="6286680" y="2552760"/>
            <a:ext cx="1992240" cy="8110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f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Industrial/Ag/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ounded Rectangle 8"/>
          <p:cNvSpPr/>
          <p:nvPr/>
        </p:nvSpPr>
        <p:spPr>
          <a:xfrm>
            <a:off x="3465360" y="5029200"/>
            <a:ext cx="1990800" cy="8096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f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Consum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ounded Rectangle 9"/>
          <p:cNvSpPr/>
          <p:nvPr/>
        </p:nvSpPr>
        <p:spPr>
          <a:xfrm>
            <a:off x="6286680" y="5029200"/>
            <a:ext cx="1992240" cy="8096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f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Enabling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Rounded Rectangle 10"/>
          <p:cNvGrpSpPr/>
          <p:nvPr/>
        </p:nvGrpSpPr>
        <p:grpSpPr>
          <a:xfrm>
            <a:off x="701640" y="1365120"/>
            <a:ext cx="2108160" cy="920880"/>
            <a:chOff x="701640" y="1365120"/>
            <a:chExt cx="2108160" cy="920880"/>
          </a:xfrm>
        </p:grpSpPr>
        <p:pic>
          <p:nvPicPr>
            <p:cNvPr id="736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701640" y="1365120"/>
              <a:ext cx="2108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801720" y="1440000"/>
              <a:ext cx="191304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libri"/>
                </a:rPr>
                <a:t>Ligh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Rounded Rectangle 11"/>
          <p:cNvGrpSpPr/>
          <p:nvPr/>
        </p:nvGrpSpPr>
        <p:grpSpPr>
          <a:xfrm>
            <a:off x="3402000" y="1365120"/>
            <a:ext cx="2108160" cy="920880"/>
            <a:chOff x="3402000" y="1365120"/>
            <a:chExt cx="2108160" cy="920880"/>
          </a:xfrm>
        </p:grpSpPr>
        <p:pic>
          <p:nvPicPr>
            <p:cNvPr id="739" name="Rounded Rectangle 11" descr=""/>
            <p:cNvPicPr/>
            <p:nvPr/>
          </p:nvPicPr>
          <p:blipFill>
            <a:blip r:embed="rId2"/>
            <a:stretch/>
          </p:blipFill>
          <p:spPr>
            <a:xfrm>
              <a:off x="3402000" y="1365120"/>
              <a:ext cx="2108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3505320" y="1440000"/>
              <a:ext cx="191124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libri"/>
                </a:rPr>
                <a:t>HV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Rounded Rectangle 12"/>
          <p:cNvSpPr/>
          <p:nvPr/>
        </p:nvSpPr>
        <p:spPr>
          <a:xfrm>
            <a:off x="762120" y="5029200"/>
            <a:ext cx="1987560" cy="8096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f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libri"/>
              </a:rPr>
              <a:t>Energ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ounded Rectangle 13"/>
          <p:cNvSpPr/>
          <p:nvPr/>
        </p:nvSpPr>
        <p:spPr>
          <a:xfrm>
            <a:off x="6248520" y="3733920"/>
            <a:ext cx="2030400" cy="8096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ff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Crosscut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Collabo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5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021B-7594-4900-BE83-644FE02CF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ooter Placeholder 16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Verdana"/>
              </a:rPr>
              <a:t>2009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E3T </a:t>
            </a:r>
            <a:r>
              <a:rPr b="1" lang="en-US" sz="2000" spc="-1" strike="noStrike">
                <a:solidFill>
                  <a:srgbClr val="376092"/>
                </a:solidFill>
                <a:latin typeface="Verdana"/>
              </a:rPr>
              <a:t>Lighting Technical Advisory Members </a:t>
            </a:r>
            <a:r>
              <a:rPr b="1" lang="en-US" sz="1000" spc="-1" strike="noStrike">
                <a:solidFill>
                  <a:srgbClr val="376092"/>
                </a:solidFill>
                <a:latin typeface="Verdana"/>
              </a:rPr>
              <a:t>(partial)</a:t>
            </a:r>
            <a:endParaRPr b="1" lang="en-US" sz="10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46" name="Footer Placeholder 2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6D03-13F0-4759-9BB6-D3DABAE891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685800" y="1371600"/>
          <a:ext cx="8077320" cy="4915080"/>
        </p:xfrm>
        <a:graphic>
          <a:graphicData uri="http://schemas.openxmlformats.org/drawingml/2006/table">
            <a:tbl>
              <a:tblPr/>
              <a:tblGrid>
                <a:gridCol w="2228760"/>
                <a:gridCol w="3970440"/>
                <a:gridCol w="1878120"/>
              </a:tblGrid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arry Giard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ity of Ash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shland,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harlie Gr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orthwest Power and Conservation Counc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ortland,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ichael 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ighting Design 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eattle, 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Jonathan Livings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ivingston Energy Innov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an Franc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oug Opped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nergy Trust of Oreg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ortland,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ark 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ighting Research C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roy, 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eter Mo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ighting Research C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roy, 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uís Fernan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alifornia Lighting Technology Ce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avis,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Joe Vacc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ugene Water &amp; Electric 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ugene,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Jack Zei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Washington State University Energy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Olympia, W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ob Penn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WSU Energy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Olympia, W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ra Krepc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  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oulder, 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raig Ciran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PA Energy 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ortland,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Solution Ranking Sheet (extract)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50" name="Footer Placeholder 2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920D-6841-4802-8A89-5B59CFDF30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2" name="Object 114"/>
          <p:cNvGraphicFramePr/>
          <p:nvPr/>
        </p:nvGraphicFramePr>
        <p:xfrm>
          <a:off x="762120" y="1371600"/>
          <a:ext cx="76579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3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6579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Solution Summary (extract)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55" name="Footer Placeholder 2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639D-6716-4398-B2AA-271D2A6878C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Object 4"/>
          <p:cNvGraphicFramePr/>
          <p:nvPr/>
        </p:nvGraphicFramePr>
        <p:xfrm>
          <a:off x="457200" y="1295280"/>
          <a:ext cx="81835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183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urrent BPA Technology Innovation and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merging Technology Project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anced Lighting Technologies for Energy Efficiency and Demand Respon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f-Correcting Building HVAC Controls Technology Develop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-Efficiency Low-Lift Vapor Compression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matic Diagnostic for Package HVA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w Temp Heat Pum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i-Split Heat Pump Dem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cery store gasket, door closure and strip curtain lab te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ckaged Rooftop Unit RD&amp;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going RTF Rooftop Unit subcommittee lab and field te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8 Spokane area AirCare Plus demonstration with pre/post mete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9 Premium Ventilation Package field te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9 Expanded Rooftop Unit demonst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4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010F-484A-4B27-A058-2778B55D77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3T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Potential FY 2009/2010 Project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ick Start” - Residential 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t Pump Water Heater Lab and Field Te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ctless Heat Pumps – Special Appl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ufactured Ho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d Cl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ick Start” - Mis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mart Plug Strips - Pil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tel/Hotel PTHP with Occupancy Controls – Field T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iversity Sustainability Initia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ing based C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mpus-wide sustainability tracking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ckaged rooftop unit energy savings diagnostics to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Footer Placeholder 2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A4C0-7E6C-4AFD-BD86-76BAA2A96EB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3T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Potential FY 2009/2010 Project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ighting 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ssmen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Ds for commercial sig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-level occupancy sensors in off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contr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ced ambient lighting w/task lighting: offices, schools, warehou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t track to program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sopic Lighting for low light visi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-level for parking, garages, stairwel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ining install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Footer Placeholder 2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A05B-EDC6-46CF-BA38-F703E7A8C56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3T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 FY 2009 Plan and Schedul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72" name="Footer Placeholder 2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33C8-AB51-4596-A90C-28B2628FC0B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533520" y="1219320"/>
          <a:ext cx="8229600" cy="495612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380880"/>
                <a:gridCol w="6248520"/>
              </a:tblGrid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hievement Fo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667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st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76092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76092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76092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76092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76092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ed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3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acted for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d Detailed Work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ruited Lighting &amp; HVAC Tech Advisory Groups (TA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07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nd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Initial Lighting &amp; HVAC Portfol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rt Lighting &amp; HVAC Assess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7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rd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ue Initial Assess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and Expand Portfol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2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 Initial Assess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 Program Uptak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itional Tech Advisory Groups (TA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722160" y="335268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Footer Placeholder 3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1979-59B1-49BE-8CF8-AB6E42794C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7"/>
          <p:cNvSpPr/>
          <p:nvPr/>
        </p:nvSpPr>
        <p:spPr>
          <a:xfrm>
            <a:off x="3124080" y="457200"/>
            <a:ext cx="47246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Verdana"/>
              </a:rPr>
              <a:t>Jack M. Callahan, </a:t>
            </a:r>
            <a:r>
              <a:rPr b="0" lang="en-US" sz="1600" spc="-1" strike="noStrike">
                <a:solidFill>
                  <a:srgbClr val="558ed5"/>
                </a:solidFill>
                <a:latin typeface="Verdana"/>
              </a:rPr>
              <a:t>P.E., CEM, CMV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Verdana"/>
              </a:rPr>
              <a:t>Senior 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Verdana"/>
              </a:rPr>
              <a:t>Energy Efficiency Engineering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Verdana"/>
              </a:rPr>
              <a:t>Bonneville Power 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Verdana"/>
              </a:rPr>
              <a:t>(503) 230-44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13" descr="BPA Logo.gif"/>
          <p:cNvPicPr/>
          <p:nvPr/>
        </p:nvPicPr>
        <p:blipFill>
          <a:blip r:embed="rId1"/>
          <a:stretch/>
        </p:blipFill>
        <p:spPr>
          <a:xfrm>
            <a:off x="762120" y="609480"/>
            <a:ext cx="17985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780" name="Group 11"/>
          <p:cNvGrpSpPr/>
          <p:nvPr/>
        </p:nvGrpSpPr>
        <p:grpSpPr>
          <a:xfrm>
            <a:off x="762120" y="2286000"/>
            <a:ext cx="7162560" cy="4133160"/>
            <a:chOff x="762120" y="2286000"/>
            <a:chExt cx="7162560" cy="4133160"/>
          </a:xfrm>
        </p:grpSpPr>
        <p:sp>
          <p:nvSpPr>
            <p:cNvPr id="781" name="Rounded Rectangle 8"/>
            <p:cNvSpPr/>
            <p:nvPr/>
          </p:nvSpPr>
          <p:spPr>
            <a:xfrm>
              <a:off x="762120" y="2286000"/>
              <a:ext cx="7086600" cy="381096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2" name="Picture 1" descr=""/>
            <p:cNvPicPr/>
            <p:nvPr/>
          </p:nvPicPr>
          <p:blipFill>
            <a:blip r:embed="rId2"/>
            <a:stretch/>
          </p:blipFill>
          <p:spPr>
            <a:xfrm>
              <a:off x="1547640" y="2795040"/>
              <a:ext cx="538668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Box 10"/>
            <p:cNvSpPr/>
            <p:nvPr/>
          </p:nvSpPr>
          <p:spPr>
            <a:xfrm>
              <a:off x="762120" y="4953600"/>
              <a:ext cx="7162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6260"/>
                  </a:solidFill>
                  <a:latin typeface="Verdana"/>
                </a:rPr>
                <a:t>A trusted source for emerging energy efficiency technologies and solutions, providing a steady stream of valued innovations to BPA, utilities, and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6260"/>
                  </a:solidFill>
                  <a:latin typeface="Verdana"/>
                </a:rPr>
                <a:t>end-us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E Emerging Technology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3T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) Synopsi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rt-up year of a multi-year ef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cus is on emerging technolog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tilize BPA strength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ional scale and coord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ty relationshi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 expertise and obje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ment &amp; Verification (M&amp;V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0808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ology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sion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260"/>
                </a:solidFill>
                <a:latin typeface="Verdana"/>
              </a:rPr>
              <a:t>A trusted source for emerging energy efficiency technologies and solutions, providing a steady stream of valued innovations to BPA, utilities, and </a:t>
            </a:r>
            <a:br>
              <a:rPr sz="2400"/>
            </a:br>
            <a:r>
              <a:rPr b="1" i="1" lang="en-US" sz="2400" spc="-1" strike="noStrike">
                <a:solidFill>
                  <a:srgbClr val="006260"/>
                </a:solidFill>
                <a:latin typeface="Verdana"/>
              </a:rPr>
              <a:t>end-us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8F6E-1150-4967-8197-22FE55C049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3T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rthwest Energy Efficiency Task Force 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rging Technologies and Solutions Work Group #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ionally focused gro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PA Office of Technology Innov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ad map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tfolio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lifornia Emerging Technologies Coordinating Counci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ordinating among its members to facilitate the assessment of promising energy efficient emerging technologies that will benefit California customers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F008-DC69-445D-822F-7F21D4E24B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1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2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6F3C-44E9-4187-B0F8-98872F0C40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762120" y="3200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58ed5"/>
                </a:solidFill>
                <a:uFillTx/>
                <a:latin typeface="Verdana"/>
              </a:rPr>
              <a:t>Takea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Verdana"/>
              </a:rPr>
              <a:t>Collaborative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Verdana"/>
              </a:rPr>
              <a:t>Regional role for R D &amp; D for energy effici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Verdana"/>
              </a:rPr>
              <a:t>Dedicated funding and dedicated sta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Verdana"/>
              </a:rPr>
              <a:t>Focus on PNW n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Verdana"/>
              </a:rPr>
              <a:t>Leverage work in the region and beyo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Box 6"/>
          <p:cNvSpPr/>
          <p:nvPr/>
        </p:nvSpPr>
        <p:spPr>
          <a:xfrm>
            <a:off x="609480" y="762120"/>
            <a:ext cx="8077320" cy="1952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rthwest Energy Efficiency Taskforce </a:t>
            </a: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ork Group #2 - Emerging Solutions and Technologies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ly –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ow can we keep the pipeline full of energy efficiency innovations for use in the Pacific Northw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457200" y="1676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5, Bonneville re-started its R&amp;D program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nneville created a series of 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chnology roadmap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group has developed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Philosoph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s well as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Decision Framewor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Footer Placeholder 1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A3D4-45FF-4D27-B4DD-7DD87F246F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5" descr="TCI%20Council%20banner.jpg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914400"/>
          </a:xfrm>
          <a:prstGeom prst="rect">
            <a:avLst/>
          </a:prstGeom>
          <a:ln w="0">
            <a:noFill/>
          </a:ln>
        </p:spPr>
      </p:pic>
      <p:pic>
        <p:nvPicPr>
          <p:cNvPr id="602" name="Chart 6" descr=""/>
          <p:cNvPicPr/>
          <p:nvPr/>
        </p:nvPicPr>
        <p:blipFill>
          <a:blip r:embed="rId2"/>
          <a:stretch/>
        </p:blipFill>
        <p:spPr>
          <a:xfrm>
            <a:off x="3956040" y="2889360"/>
            <a:ext cx="4919760" cy="3481200"/>
          </a:xfrm>
          <a:prstGeom prst="rect">
            <a:avLst/>
          </a:prstGeom>
          <a:ln w="0">
            <a:noFill/>
          </a:ln>
        </p:spPr>
      </p:pic>
      <p:sp>
        <p:nvSpPr>
          <p:cNvPr id="603" name="TextBox 7"/>
          <p:cNvSpPr/>
          <p:nvPr/>
        </p:nvSpPr>
        <p:spPr>
          <a:xfrm>
            <a:off x="380880" y="3048120"/>
            <a:ext cx="434340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FY’09 portfolio includes 57 projects funded at about $7.5 mill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58ed5"/>
                </a:solidFill>
                <a:uFillTx/>
                <a:latin typeface="Arial"/>
              </a:rPr>
              <a:t>Takea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Arial"/>
                <a:ea typeface="ＭＳ Ｐゴシック"/>
              </a:rPr>
              <a:t>Technology Road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Arial"/>
                <a:ea typeface="ＭＳ Ｐゴシック"/>
              </a:rPr>
              <a:t>Portfolio Philos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Arial"/>
                <a:ea typeface="ＭＳ Ｐゴシック"/>
              </a:rPr>
              <a:t>Learn quickly &amp; chea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Arial"/>
                <a:ea typeface="ＭＳ Ｐゴシック"/>
              </a:rPr>
              <a:t>Stage Gate</a:t>
            </a:r>
            <a:r>
              <a:rPr b="0" lang="en-US" sz="1800" spc="-1" strike="noStrike">
                <a:solidFill>
                  <a:srgbClr val="4f81bd"/>
                </a:solidFill>
                <a:latin typeface="Arial"/>
                <a:ea typeface="ＭＳ Ｐゴシック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Content Placeholder 8" descr="Luxim.jpg"/>
          <p:cNvPicPr/>
          <p:nvPr/>
        </p:nvPicPr>
        <p:blipFill>
          <a:blip r:embed="rId1"/>
          <a:stretch/>
        </p:blipFill>
        <p:spPr>
          <a:xfrm>
            <a:off x="7010280" y="4114800"/>
            <a:ext cx="1919520" cy="16113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800600" y="1828800"/>
            <a:ext cx="4038480" cy="1828800"/>
          </a:xfrm>
          <a:prstGeom prst="rect">
            <a:avLst/>
          </a:prstGeom>
          <a:solidFill>
            <a:srgbClr val="ebf1de"/>
          </a:solidFill>
          <a:ln w="9360">
            <a:solidFill>
              <a:srgbClr val="ebf1d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ssion 3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e-of-the-Art Lighting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ssion 4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ving Towards Zero Energy Homes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6260"/>
              </a:buClr>
              <a:buSzPct val="1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ssion 17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a Centers - The Next Frontier for Energy Efficienc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Footer Placeholder 1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2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383A-053B-46F7-A72A-087819258D0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6" descr="ETCC Logo.gif"/>
          <p:cNvPicPr/>
          <p:nvPr/>
        </p:nvPicPr>
        <p:blipFill>
          <a:blip r:embed="rId2"/>
          <a:stretch/>
        </p:blipFill>
        <p:spPr>
          <a:xfrm>
            <a:off x="762120" y="533520"/>
            <a:ext cx="2288880" cy="1066680"/>
          </a:xfrm>
          <a:prstGeom prst="rect">
            <a:avLst/>
          </a:prstGeom>
          <a:ln w="0">
            <a:noFill/>
          </a:ln>
        </p:spPr>
      </p:pic>
      <p:sp>
        <p:nvSpPr>
          <p:cNvPr id="609" name="TextBox 7"/>
          <p:cNvSpPr/>
          <p:nvPr/>
        </p:nvSpPr>
        <p:spPr>
          <a:xfrm>
            <a:off x="3124080" y="6094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"/>
              </a:rPr>
              <a:t>Summit October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9" descr="novatorgue.jpg"/>
          <p:cNvPicPr/>
          <p:nvPr/>
        </p:nvPicPr>
        <p:blipFill>
          <a:blip r:embed="rId3"/>
          <a:stretch/>
        </p:blipFill>
        <p:spPr>
          <a:xfrm>
            <a:off x="6858000" y="533520"/>
            <a:ext cx="2006640" cy="1255680"/>
          </a:xfrm>
          <a:prstGeom prst="rect">
            <a:avLst/>
          </a:prstGeom>
          <a:ln w="0">
            <a:noFill/>
          </a:ln>
        </p:spPr>
      </p:pic>
      <p:sp>
        <p:nvSpPr>
          <p:cNvPr id="611" name="Content Placeholder 5"/>
          <p:cNvSpPr/>
          <p:nvPr/>
        </p:nvSpPr>
        <p:spPr>
          <a:xfrm>
            <a:off x="304920" y="1600200"/>
            <a:ext cx="4343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2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s of Inno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2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rge scale and scope of California utility and public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2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(s) for how (and how not) to do emerg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ight Arrow 9"/>
          <p:cNvSpPr/>
          <p:nvPr/>
        </p:nvSpPr>
        <p:spPr>
          <a:xfrm>
            <a:off x="3200400" y="2057400"/>
            <a:ext cx="1447920" cy="2286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ontent Placeholder 5"/>
          <p:cNvSpPr/>
          <p:nvPr/>
        </p:nvSpPr>
        <p:spPr>
          <a:xfrm>
            <a:off x="685800" y="403848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58ed5"/>
                </a:solidFill>
                <a:uFillTx/>
                <a:latin typeface="Verdana"/>
                <a:ea typeface="ＭＳ Ｐゴシック"/>
              </a:rPr>
              <a:t>Takea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  <a:ea typeface="ＭＳ Ｐゴシック"/>
              </a:rPr>
              <a:t>Include end-user focus &amp;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  <a:ea typeface="ＭＳ Ｐゴシック"/>
              </a:rPr>
              <a:t>Address “weak-link” between R&amp;D and EE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2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  <a:ea typeface="ＭＳ Ｐゴシック"/>
              </a:rPr>
              <a:t>Make sure “screeners” have knowledge &amp; understanding of specific technical and market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ounded Rectangle 8"/>
          <p:cNvSpPr/>
          <p:nvPr/>
        </p:nvSpPr>
        <p:spPr>
          <a:xfrm>
            <a:off x="609480" y="1523880"/>
            <a:ext cx="7620120" cy="4191120"/>
          </a:xfrm>
          <a:prstGeom prst="roundRect">
            <a:avLst>
              <a:gd name="adj" fmla="val 16667"/>
            </a:avLst>
          </a:prstGeom>
          <a:solidFill>
            <a:srgbClr val="ffffcc">
              <a:alpha val="60000"/>
            </a:srgbClr>
          </a:solidFill>
          <a:ln w="64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3T 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omprehensive Approach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616" name="Content Placeholder 3" descr=""/>
          <p:cNvPicPr/>
          <p:nvPr/>
        </p:nvPicPr>
        <p:blipFill>
          <a:blip r:embed="rId1"/>
          <a:stretch/>
        </p:blipFill>
        <p:spPr>
          <a:xfrm>
            <a:off x="987480" y="1517760"/>
            <a:ext cx="7095960" cy="3975120"/>
          </a:xfrm>
          <a:prstGeom prst="rect">
            <a:avLst/>
          </a:prstGeom>
          <a:ln w="0">
            <a:noFill/>
          </a:ln>
        </p:spPr>
      </p:pic>
      <p:sp>
        <p:nvSpPr>
          <p:cNvPr id="617" name="Left-Right Arrow 6"/>
          <p:cNvSpPr/>
          <p:nvPr/>
        </p:nvSpPr>
        <p:spPr>
          <a:xfrm>
            <a:off x="855720" y="5105520"/>
            <a:ext cx="7549920" cy="6271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ity: Energy Smart Innovations 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eft-Right Arrow 7"/>
          <p:cNvSpPr/>
          <p:nvPr/>
        </p:nvSpPr>
        <p:spPr>
          <a:xfrm>
            <a:off x="855720" y="1486080"/>
            <a:ext cx="7367400" cy="706320"/>
          </a:xfrm>
          <a:prstGeom prst="left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ity: Ongoing TI activities (w/ typical 1 - 3 year ET proj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07D-2DB0-482A-B54A-402F1825BAE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9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3T 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Structur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PA Technology Innovation Counci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rategic oversight and revie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E3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staf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lect &amp; manage portfolio, oversee all groups be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 office + EE staff (as assigned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  management and contract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actical management of assess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E Program, Planning, and Marketing Group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versee customer &amp; market research, information transfer, assist in results transfer to utilities and to EE pro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chnical Advisory Groups (TAGs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creening, review, ran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4f81bd"/>
                </a:solidFill>
                <a:uFillTx/>
                <a:latin typeface="Times New Roman"/>
              </a:rPr>
              <a:t>Long Te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2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Verdana"/>
              </a:rPr>
              <a:t>Energy Smart Innovation Center </a:t>
            </a:r>
            <a:r>
              <a:rPr b="0" lang="en-US" sz="1800" spc="-1" strike="noStrike">
                <a:solidFill>
                  <a:srgbClr val="4f81bd"/>
                </a:solidFill>
                <a:latin typeface="Times New Roman"/>
              </a:rPr>
              <a:t>– </a:t>
            </a:r>
            <a:r>
              <a:rPr b="0" i="1" lang="en-US" sz="1800" spc="-1" strike="noStrike">
                <a:solidFill>
                  <a:srgbClr val="4f81bd"/>
                </a:solidFill>
                <a:latin typeface="Times New Roman"/>
              </a:rPr>
              <a:t>perform and manage scanning, customer &amp; market research, information transfer;  oversee Web development and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Times New Roman"/>
              </a:rPr>
              <a:t>Web-Hosted Information Sharing</a:t>
            </a:r>
            <a:r>
              <a:rPr b="0" lang="en-US" sz="1800" spc="-1" strike="noStrike">
                <a:solidFill>
                  <a:srgbClr val="4f81bd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Times New Roman"/>
              </a:rPr>
              <a:t>Web-Hosted Collaboration Plat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Footer Placeholder 3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6291360" y="6470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92BD-42D2-4923-B730-8850159AD1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ight Arrow 95"/>
          <p:cNvSpPr/>
          <p:nvPr/>
        </p:nvSpPr>
        <p:spPr>
          <a:xfrm>
            <a:off x="1600200" y="4592520"/>
            <a:ext cx="7324560" cy="1817640"/>
          </a:xfrm>
          <a:prstGeom prst="rightArrow">
            <a:avLst>
              <a:gd name="adj1" fmla="val 65296"/>
              <a:gd name="adj2" fmla="val 65856"/>
            </a:avLst>
          </a:prstGeom>
          <a:solidFill>
            <a:srgbClr val="4f81b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46040" y="53784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E3T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 Framework: Process as of </a:t>
            </a:r>
            <a:r>
              <a:rPr b="1" lang="en-US" sz="2000" spc="-1" strike="noStrike">
                <a:solidFill>
                  <a:srgbClr val="376092"/>
                </a:solidFill>
                <a:latin typeface="Verdana"/>
              </a:rPr>
              <a:t>3/02/0</a:t>
            </a:r>
            <a:r>
              <a:rPr b="1" lang="en-US" sz="1800" spc="-1" strike="noStrike">
                <a:solidFill>
                  <a:srgbClr val="376092"/>
                </a:solidFill>
                <a:latin typeface="Verdana"/>
              </a:rPr>
              <a:t>9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27" name="Footer Placeholder 3"/>
          <p:cNvSpPr/>
          <p:nvPr/>
        </p:nvSpPr>
        <p:spPr>
          <a:xfrm>
            <a:off x="41400" y="6470640"/>
            <a:ext cx="4530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ing Energy Efficiency Technolog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760400" y="5237280"/>
            <a:ext cx="1420920" cy="512640"/>
          </a:xfrm>
          <a:prstGeom prst="rect">
            <a:avLst/>
          </a:prstGeom>
          <a:ln w="0">
            <a:noFill/>
          </a:ln>
        </p:spPr>
      </p:pic>
      <p:sp>
        <p:nvSpPr>
          <p:cNvPr id="629" name="TextBox 141"/>
          <p:cNvSpPr/>
          <p:nvPr/>
        </p:nvSpPr>
        <p:spPr>
          <a:xfrm>
            <a:off x="1839960" y="572760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E3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101"/>
          <p:cNvGrpSpPr/>
          <p:nvPr/>
        </p:nvGrpSpPr>
        <p:grpSpPr>
          <a:xfrm>
            <a:off x="3495600" y="5038560"/>
            <a:ext cx="1484280" cy="1061280"/>
            <a:chOff x="3495600" y="5038560"/>
            <a:chExt cx="1484280" cy="1061280"/>
          </a:xfrm>
        </p:grpSpPr>
        <p:sp>
          <p:nvSpPr>
            <p:cNvPr id="631" name="Rectangle 102"/>
            <p:cNvSpPr/>
            <p:nvPr/>
          </p:nvSpPr>
          <p:spPr>
            <a:xfrm>
              <a:off x="3617640" y="5038560"/>
              <a:ext cx="1222560" cy="746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Group 97"/>
            <p:cNvGrpSpPr/>
            <p:nvPr/>
          </p:nvGrpSpPr>
          <p:grpSpPr>
            <a:xfrm>
              <a:off x="3701880" y="5114160"/>
              <a:ext cx="1052640" cy="592200"/>
              <a:chOff x="3701880" y="5114160"/>
              <a:chExt cx="1052640" cy="592200"/>
            </a:xfrm>
          </p:grpSpPr>
          <p:grpSp>
            <p:nvGrpSpPr>
              <p:cNvPr id="633" name="Group 104"/>
              <p:cNvGrpSpPr/>
              <p:nvPr/>
            </p:nvGrpSpPr>
            <p:grpSpPr>
              <a:xfrm>
                <a:off x="3701880" y="5114160"/>
                <a:ext cx="652680" cy="64080"/>
                <a:chOff x="3701880" y="5114160"/>
                <a:chExt cx="652680" cy="64080"/>
              </a:xfrm>
            </p:grpSpPr>
            <p:sp>
              <p:nvSpPr>
                <p:cNvPr id="634" name="Rectangle 330"/>
                <p:cNvSpPr/>
                <p:nvPr/>
              </p:nvSpPr>
              <p:spPr>
                <a:xfrm>
                  <a:off x="4086720" y="5114160"/>
                  <a:ext cx="267840" cy="64080"/>
                </a:xfrm>
                <a:prstGeom prst="rect">
                  <a:avLst/>
                </a:prstGeom>
                <a:solidFill>
                  <a:srgbClr val="0099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Rectangle 331"/>
                <p:cNvSpPr/>
                <p:nvPr/>
              </p:nvSpPr>
              <p:spPr>
                <a:xfrm>
                  <a:off x="4042800" y="5114160"/>
                  <a:ext cx="43560" cy="64080"/>
                </a:xfrm>
                <a:prstGeom prst="rect">
                  <a:avLst/>
                </a:prstGeom>
                <a:solidFill>
                  <a:srgbClr val="ff99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399"/>
                <p:cNvSpPr/>
                <p:nvPr/>
              </p:nvSpPr>
              <p:spPr>
                <a:xfrm>
                  <a:off x="3745080" y="5114160"/>
                  <a:ext cx="297360" cy="64080"/>
                </a:xfrm>
                <a:prstGeom prst="rect">
                  <a:avLst/>
                </a:prstGeom>
                <a:solidFill>
                  <a:srgbClr val="0070c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Rectangle 331"/>
                <p:cNvSpPr/>
                <p:nvPr/>
              </p:nvSpPr>
              <p:spPr>
                <a:xfrm>
                  <a:off x="3701880" y="5114160"/>
                  <a:ext cx="43560" cy="64080"/>
                </a:xfrm>
                <a:prstGeom prst="rect">
                  <a:avLst/>
                </a:prstGeom>
                <a:solidFill>
                  <a:srgbClr val="ffff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Group 105"/>
              <p:cNvGrpSpPr/>
              <p:nvPr/>
            </p:nvGrpSpPr>
            <p:grpSpPr>
              <a:xfrm>
                <a:off x="3704400" y="5457240"/>
                <a:ext cx="1050120" cy="64080"/>
                <a:chOff x="3704400" y="5457240"/>
                <a:chExt cx="1050120" cy="64080"/>
              </a:xfrm>
            </p:grpSpPr>
            <p:sp>
              <p:nvSpPr>
                <p:cNvPr id="639" name="Rectangle 333"/>
                <p:cNvSpPr/>
                <p:nvPr/>
              </p:nvSpPr>
              <p:spPr>
                <a:xfrm>
                  <a:off x="4382640" y="5457240"/>
                  <a:ext cx="371880" cy="64080"/>
                </a:xfrm>
                <a:prstGeom prst="rect">
                  <a:avLst/>
                </a:prstGeom>
                <a:solidFill>
                  <a:srgbClr val="0099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Rectangle 334"/>
                <p:cNvSpPr/>
                <p:nvPr/>
              </p:nvSpPr>
              <p:spPr>
                <a:xfrm>
                  <a:off x="4120200" y="5457240"/>
                  <a:ext cx="262440" cy="64080"/>
                </a:xfrm>
                <a:prstGeom prst="rect">
                  <a:avLst/>
                </a:prstGeom>
                <a:solidFill>
                  <a:srgbClr val="ff99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Rectangle 400"/>
                <p:cNvSpPr/>
                <p:nvPr/>
              </p:nvSpPr>
              <p:spPr>
                <a:xfrm>
                  <a:off x="3747960" y="5457240"/>
                  <a:ext cx="371880" cy="64080"/>
                </a:xfrm>
                <a:prstGeom prst="rect">
                  <a:avLst/>
                </a:prstGeom>
                <a:solidFill>
                  <a:srgbClr val="0070c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Rectangle 331"/>
                <p:cNvSpPr/>
                <p:nvPr/>
              </p:nvSpPr>
              <p:spPr>
                <a:xfrm>
                  <a:off x="3704400" y="5457240"/>
                  <a:ext cx="43560" cy="64080"/>
                </a:xfrm>
                <a:prstGeom prst="rect">
                  <a:avLst/>
                </a:prstGeom>
                <a:solidFill>
                  <a:srgbClr val="ffff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106"/>
              <p:cNvGrpSpPr/>
              <p:nvPr/>
            </p:nvGrpSpPr>
            <p:grpSpPr>
              <a:xfrm>
                <a:off x="3704040" y="5642280"/>
                <a:ext cx="262800" cy="64080"/>
                <a:chOff x="3704040" y="5642280"/>
                <a:chExt cx="262800" cy="64080"/>
              </a:xfrm>
            </p:grpSpPr>
            <p:sp>
              <p:nvSpPr>
                <p:cNvPr id="644" name="Rectangle 335"/>
                <p:cNvSpPr/>
                <p:nvPr/>
              </p:nvSpPr>
              <p:spPr>
                <a:xfrm>
                  <a:off x="3923280" y="5642280"/>
                  <a:ext cx="43560" cy="64080"/>
                </a:xfrm>
                <a:prstGeom prst="rect">
                  <a:avLst/>
                </a:prstGeom>
                <a:solidFill>
                  <a:srgbClr val="0099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Rectangle 336"/>
                <p:cNvSpPr/>
                <p:nvPr/>
              </p:nvSpPr>
              <p:spPr>
                <a:xfrm>
                  <a:off x="3879360" y="5642280"/>
                  <a:ext cx="43560" cy="64080"/>
                </a:xfrm>
                <a:prstGeom prst="rect">
                  <a:avLst/>
                </a:prstGeom>
                <a:solidFill>
                  <a:srgbClr val="ff99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Rectangle 402"/>
                <p:cNvSpPr/>
                <p:nvPr/>
              </p:nvSpPr>
              <p:spPr>
                <a:xfrm>
                  <a:off x="3747960" y="5642280"/>
                  <a:ext cx="131400" cy="64080"/>
                </a:xfrm>
                <a:prstGeom prst="rect">
                  <a:avLst/>
                </a:prstGeom>
                <a:solidFill>
                  <a:srgbClr val="0070c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Rectangle 331"/>
                <p:cNvSpPr/>
                <p:nvPr/>
              </p:nvSpPr>
              <p:spPr>
                <a:xfrm>
                  <a:off x="3704040" y="5642280"/>
                  <a:ext cx="43560" cy="64080"/>
                </a:xfrm>
                <a:prstGeom prst="rect">
                  <a:avLst/>
                </a:prstGeom>
                <a:solidFill>
                  <a:srgbClr val="ffff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8" name="Group 107"/>
              <p:cNvGrpSpPr/>
              <p:nvPr/>
            </p:nvGrpSpPr>
            <p:grpSpPr>
              <a:xfrm>
                <a:off x="3704400" y="5286960"/>
                <a:ext cx="887400" cy="64080"/>
                <a:chOff x="3704400" y="5286960"/>
                <a:chExt cx="887400" cy="64080"/>
              </a:xfrm>
            </p:grpSpPr>
            <p:sp>
              <p:nvSpPr>
                <p:cNvPr id="649" name="Rectangle 832"/>
                <p:cNvSpPr/>
                <p:nvPr/>
              </p:nvSpPr>
              <p:spPr>
                <a:xfrm>
                  <a:off x="3847680" y="5286960"/>
                  <a:ext cx="437400" cy="64080"/>
                </a:xfrm>
                <a:prstGeom prst="rect">
                  <a:avLst/>
                </a:prstGeom>
                <a:solidFill>
                  <a:srgbClr val="0070c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Rectangle 842"/>
                <p:cNvSpPr/>
                <p:nvPr/>
              </p:nvSpPr>
              <p:spPr>
                <a:xfrm>
                  <a:off x="4285440" y="5286960"/>
                  <a:ext cx="43560" cy="64080"/>
                </a:xfrm>
                <a:prstGeom prst="rect">
                  <a:avLst/>
                </a:prstGeom>
                <a:solidFill>
                  <a:srgbClr val="ff99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Rectangle 843"/>
                <p:cNvSpPr/>
                <p:nvPr/>
              </p:nvSpPr>
              <p:spPr>
                <a:xfrm>
                  <a:off x="4329360" y="5286960"/>
                  <a:ext cx="262440" cy="64080"/>
                </a:xfrm>
                <a:prstGeom prst="rect">
                  <a:avLst/>
                </a:prstGeom>
                <a:solidFill>
                  <a:srgbClr val="0099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Rectangle 331"/>
                <p:cNvSpPr/>
                <p:nvPr/>
              </p:nvSpPr>
              <p:spPr>
                <a:xfrm>
                  <a:off x="3704400" y="5286960"/>
                  <a:ext cx="143280" cy="64080"/>
                </a:xfrm>
                <a:prstGeom prst="rect">
                  <a:avLst/>
                </a:prstGeom>
                <a:solidFill>
                  <a:srgbClr val="ffff00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3" name="TextBox 104"/>
            <p:cNvSpPr/>
            <p:nvPr/>
          </p:nvSpPr>
          <p:spPr>
            <a:xfrm>
              <a:off x="3495600" y="5792760"/>
              <a:ext cx="148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E3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Action Pl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152"/>
          <p:cNvGrpSpPr/>
          <p:nvPr/>
        </p:nvGrpSpPr>
        <p:grpSpPr>
          <a:xfrm>
            <a:off x="5330880" y="4932360"/>
            <a:ext cx="1476360" cy="1169280"/>
            <a:chOff x="5330880" y="4932360"/>
            <a:chExt cx="1476360" cy="1169280"/>
          </a:xfrm>
        </p:grpSpPr>
        <p:sp>
          <p:nvSpPr>
            <p:cNvPr id="655" name="TextBox 126"/>
            <p:cNvSpPr/>
            <p:nvPr/>
          </p:nvSpPr>
          <p:spPr>
            <a:xfrm>
              <a:off x="5337000" y="5794560"/>
              <a:ext cx="145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E3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Portfoli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6" descr=""/>
            <p:cNvPicPr/>
            <p:nvPr/>
          </p:nvPicPr>
          <p:blipFill>
            <a:blip r:embed="rId2"/>
            <a:stretch/>
          </p:blipFill>
          <p:spPr>
            <a:xfrm>
              <a:off x="5330880" y="4932360"/>
              <a:ext cx="1476360" cy="88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Left-Right Arrow 130"/>
          <p:cNvSpPr/>
          <p:nvPr/>
        </p:nvSpPr>
        <p:spPr>
          <a:xfrm>
            <a:off x="3156120" y="5398920"/>
            <a:ext cx="446040" cy="216000"/>
          </a:xfrm>
          <a:prstGeom prst="leftRigh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eft-Right Arrow 136"/>
          <p:cNvSpPr/>
          <p:nvPr/>
        </p:nvSpPr>
        <p:spPr>
          <a:xfrm>
            <a:off x="4861080" y="5386320"/>
            <a:ext cx="446040" cy="21744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ction Button: Help 139"/>
          <p:cNvSpPr/>
          <p:nvPr/>
        </p:nvSpPr>
        <p:spPr>
          <a:xfrm>
            <a:off x="2152800" y="3794040"/>
            <a:ext cx="172800" cy="193680"/>
          </a:xfrm>
          <a:custGeom>
            <a:avLst/>
            <a:gdLst>
              <a:gd name="textAreaLeft" fmla="*/ 11160 w 172800"/>
              <a:gd name="textAreaRight" fmla="*/ 161640 w 172800"/>
              <a:gd name="textAreaTop" fmla="*/ 11160 h 193680"/>
              <a:gd name="textAreaBottom" fmla="*/ 182520 h 193680"/>
            </a:gdLst>
            <a:ahLst/>
            <a:rect l="textAreaLeft" t="textAreaTop" r="textAreaRight" b="textAreaBottom"/>
            <a:pathLst>
              <a:path w="21600" h="24205">
                <a:moveTo>
                  <a:pt x="0" y="0"/>
                </a:moveTo>
                <a:lnTo>
                  <a:pt x="21600" y="0"/>
                </a:lnTo>
                <a:lnTo>
                  <a:pt x="21600" y="24205"/>
                </a:lnTo>
                <a:lnTo>
                  <a:pt x="0" y="24205"/>
                </a:lnTo>
                <a:close/>
              </a:path>
              <a:path fill="lightenLess" w="21600" h="242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05">
                <a:moveTo>
                  <a:pt x="21600" y="0"/>
                </a:moveTo>
                <a:lnTo>
                  <a:pt x="21600" y="24205"/>
                </a:lnTo>
                <a:lnTo>
                  <a:pt x="20200" y="22805"/>
                </a:lnTo>
                <a:lnTo>
                  <a:pt x="20200" y="1400"/>
                </a:lnTo>
                <a:close/>
              </a:path>
              <a:path fill="darkenLess" w="21600" h="24205">
                <a:moveTo>
                  <a:pt x="21600" y="24205"/>
                </a:moveTo>
                <a:lnTo>
                  <a:pt x="0" y="24205"/>
                </a:lnTo>
                <a:lnTo>
                  <a:pt x="1400" y="22805"/>
                </a:lnTo>
                <a:lnTo>
                  <a:pt x="20200" y="22805"/>
                </a:lnTo>
                <a:close/>
              </a:path>
              <a:path fill="lighten" w="21600" h="24205">
                <a:moveTo>
                  <a:pt x="0" y="242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05"/>
                </a:lnTo>
                <a:close/>
              </a:path>
              <a:path fill="darken" w="21600" h="24205">
                <a:moveTo>
                  <a:pt x="10800" y="161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205">
                <a:moveTo>
                  <a:pt x="11905" y="15584"/>
                </a:moveTo>
                <a:lnTo>
                  <a:pt x="11905" y="13625"/>
                </a:lnTo>
                <a:cubicBezTo>
                  <a:pt x="11905" y="12799"/>
                  <a:pt x="12236" y="12102"/>
                  <a:pt x="12837" y="12102"/>
                </a:cubicBezTo>
                <a:cubicBezTo>
                  <a:pt x="13968" y="12102"/>
                  <a:pt x="14865" y="10736"/>
                  <a:pt x="14865" y="9152"/>
                </a:cubicBezTo>
                <a:cubicBezTo>
                  <a:pt x="14865" y="6837"/>
                  <a:pt x="13011" y="5096"/>
                  <a:pt x="10800" y="5096"/>
                </a:cubicBezTo>
                <a:cubicBezTo>
                  <a:pt x="8589" y="5096"/>
                  <a:pt x="6918" y="6837"/>
                  <a:pt x="6918" y="9152"/>
                </a:cubicBezTo>
                <a:lnTo>
                  <a:pt x="8772" y="9152"/>
                </a:lnTo>
                <a:cubicBezTo>
                  <a:pt x="8772" y="8012"/>
                  <a:pt x="9695" y="7124"/>
                  <a:pt x="10800" y="7124"/>
                </a:cubicBezTo>
                <a:cubicBezTo>
                  <a:pt x="11905" y="7124"/>
                  <a:pt x="12837" y="8012"/>
                  <a:pt x="12837" y="9152"/>
                </a:cubicBezTo>
                <a:cubicBezTo>
                  <a:pt x="12837" y="9892"/>
                  <a:pt x="12367" y="10623"/>
                  <a:pt x="11905" y="10623"/>
                </a:cubicBezTo>
                <a:cubicBezTo>
                  <a:pt x="10800" y="10623"/>
                  <a:pt x="9695" y="12102"/>
                  <a:pt x="9695" y="13625"/>
                </a:cubicBezTo>
                <a:lnTo>
                  <a:pt x="9695" y="15584"/>
                </a:lnTo>
                <a:close/>
              </a:path>
            </a:pathLst>
          </a:custGeom>
          <a:solidFill>
            <a:srgbClr val="d99694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ction Button: Help 140"/>
          <p:cNvSpPr/>
          <p:nvPr/>
        </p:nvSpPr>
        <p:spPr>
          <a:xfrm>
            <a:off x="2451240" y="3927600"/>
            <a:ext cx="172800" cy="193680"/>
          </a:xfrm>
          <a:custGeom>
            <a:avLst/>
            <a:gdLst>
              <a:gd name="textAreaLeft" fmla="*/ 11160 w 172800"/>
              <a:gd name="textAreaRight" fmla="*/ 161640 w 172800"/>
              <a:gd name="textAreaTop" fmla="*/ 11160 h 193680"/>
              <a:gd name="textAreaBottom" fmla="*/ 182520 h 193680"/>
            </a:gdLst>
            <a:ahLst/>
            <a:rect l="textAreaLeft" t="textAreaTop" r="textAreaRight" b="textAreaBottom"/>
            <a:pathLst>
              <a:path w="21600" h="24205">
                <a:moveTo>
                  <a:pt x="0" y="0"/>
                </a:moveTo>
                <a:lnTo>
                  <a:pt x="21600" y="0"/>
                </a:lnTo>
                <a:lnTo>
                  <a:pt x="21600" y="24205"/>
                </a:lnTo>
                <a:lnTo>
                  <a:pt x="0" y="24205"/>
                </a:lnTo>
                <a:close/>
              </a:path>
              <a:path fill="lightenLess" w="21600" h="242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05">
                <a:moveTo>
                  <a:pt x="21600" y="0"/>
                </a:moveTo>
                <a:lnTo>
                  <a:pt x="21600" y="24205"/>
                </a:lnTo>
                <a:lnTo>
                  <a:pt x="20200" y="22805"/>
                </a:lnTo>
                <a:lnTo>
                  <a:pt x="20200" y="1400"/>
                </a:lnTo>
                <a:close/>
              </a:path>
              <a:path fill="darkenLess" w="21600" h="24205">
                <a:moveTo>
                  <a:pt x="21600" y="24205"/>
                </a:moveTo>
                <a:lnTo>
                  <a:pt x="0" y="24205"/>
                </a:lnTo>
                <a:lnTo>
                  <a:pt x="1400" y="22805"/>
                </a:lnTo>
                <a:lnTo>
                  <a:pt x="20200" y="22805"/>
                </a:lnTo>
                <a:close/>
              </a:path>
              <a:path fill="lighten" w="21600" h="24205">
                <a:moveTo>
                  <a:pt x="0" y="242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05"/>
                </a:lnTo>
                <a:close/>
              </a:path>
              <a:path fill="darken" w="21600" h="24205">
                <a:moveTo>
                  <a:pt x="10800" y="1610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205">
                <a:moveTo>
                  <a:pt x="11905" y="15584"/>
                </a:moveTo>
                <a:lnTo>
                  <a:pt x="11905" y="13625"/>
                </a:lnTo>
                <a:cubicBezTo>
                  <a:pt x="11905" y="12799"/>
                  <a:pt x="12236" y="12102"/>
                  <a:pt x="12837" y="12102"/>
                </a:cubicBezTo>
                <a:cubicBezTo>
                  <a:pt x="13968" y="12102"/>
                  <a:pt x="14865" y="10736"/>
                  <a:pt x="14865" y="9152"/>
                </a:cubicBezTo>
                <a:cubicBezTo>
                  <a:pt x="14865" y="6837"/>
                  <a:pt x="13011" y="5096"/>
                  <a:pt x="10800" y="5096"/>
                </a:cubicBezTo>
                <a:cubicBezTo>
                  <a:pt x="8589" y="5096"/>
                  <a:pt x="6918" y="6837"/>
                  <a:pt x="6918" y="9152"/>
                </a:cubicBezTo>
                <a:lnTo>
                  <a:pt x="8772" y="9152"/>
                </a:lnTo>
                <a:cubicBezTo>
                  <a:pt x="8772" y="8012"/>
                  <a:pt x="9695" y="7124"/>
                  <a:pt x="10800" y="7124"/>
                </a:cubicBezTo>
                <a:cubicBezTo>
                  <a:pt x="11905" y="7124"/>
                  <a:pt x="12837" y="8012"/>
                  <a:pt x="12837" y="9152"/>
                </a:cubicBezTo>
                <a:cubicBezTo>
                  <a:pt x="12837" y="9892"/>
                  <a:pt x="12367" y="10623"/>
                  <a:pt x="11905" y="10623"/>
                </a:cubicBezTo>
                <a:cubicBezTo>
                  <a:pt x="10800" y="10623"/>
                  <a:pt x="9695" y="12102"/>
                  <a:pt x="9695" y="13625"/>
                </a:cubicBezTo>
                <a:lnTo>
                  <a:pt x="9695" y="15584"/>
                </a:lnTo>
                <a:close/>
              </a:path>
            </a:pathLst>
          </a:custGeom>
          <a:solidFill>
            <a:srgbClr val="4f81b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151"/>
          <p:cNvGrpSpPr/>
          <p:nvPr/>
        </p:nvGrpSpPr>
        <p:grpSpPr>
          <a:xfrm>
            <a:off x="6977160" y="4896000"/>
            <a:ext cx="1455480" cy="1211760"/>
            <a:chOff x="6977160" y="4896000"/>
            <a:chExt cx="1455480" cy="1211760"/>
          </a:xfrm>
        </p:grpSpPr>
        <p:pic>
          <p:nvPicPr>
            <p:cNvPr id="662" name="Picture 7" descr="C:\Documents and Settings\Jonathan Livingston\Local Settings\Temporary Internet Files\Content.IE5\3595KUA1\MCBD06732_0000[1].wmf"/>
            <p:cNvPicPr/>
            <p:nvPr/>
          </p:nvPicPr>
          <p:blipFill>
            <a:blip r:embed="rId3"/>
            <a:stretch/>
          </p:blipFill>
          <p:spPr>
            <a:xfrm rot="19457400">
              <a:off x="7283160" y="5057280"/>
              <a:ext cx="818640" cy="82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TextBox 149"/>
            <p:cNvSpPr/>
            <p:nvPr/>
          </p:nvSpPr>
          <p:spPr>
            <a:xfrm>
              <a:off x="6977160" y="5800680"/>
              <a:ext cx="14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PA  Templa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Right Arrow 185"/>
          <p:cNvSpPr/>
          <p:nvPr/>
        </p:nvSpPr>
        <p:spPr>
          <a:xfrm>
            <a:off x="6827760" y="5394240"/>
            <a:ext cx="565200" cy="228600"/>
          </a:xfrm>
          <a:prstGeom prst="rightArrow">
            <a:avLst>
              <a:gd name="adj1" fmla="val 45833"/>
              <a:gd name="adj2" fmla="val 500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201"/>
          <p:cNvGrpSpPr/>
          <p:nvPr/>
        </p:nvGrpSpPr>
        <p:grpSpPr>
          <a:xfrm>
            <a:off x="325440" y="1974960"/>
            <a:ext cx="8583480" cy="2879640"/>
            <a:chOff x="325440" y="1974960"/>
            <a:chExt cx="8583480" cy="2879640"/>
          </a:xfrm>
        </p:grpSpPr>
        <p:grpSp>
          <p:nvGrpSpPr>
            <p:cNvPr id="666" name="Group 200"/>
            <p:cNvGrpSpPr/>
            <p:nvPr/>
          </p:nvGrpSpPr>
          <p:grpSpPr>
            <a:xfrm>
              <a:off x="7870680" y="2573280"/>
              <a:ext cx="1038240" cy="824040"/>
              <a:chOff x="7870680" y="2573280"/>
              <a:chExt cx="1038240" cy="824040"/>
            </a:xfrm>
          </p:grpSpPr>
          <p:sp>
            <p:nvSpPr>
              <p:cNvPr id="667" name="Cube 14"/>
              <p:cNvSpPr/>
              <p:nvPr/>
            </p:nvSpPr>
            <p:spPr>
              <a:xfrm>
                <a:off x="7988040" y="3160800"/>
                <a:ext cx="182520" cy="168120"/>
              </a:xfrm>
              <a:prstGeom prst="cube">
                <a:avLst>
                  <a:gd name="adj" fmla="val 25000"/>
                </a:avLst>
              </a:prstGeom>
              <a:solidFill>
                <a:srgbClr val="ffcc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Box 17"/>
              <p:cNvSpPr/>
              <p:nvPr/>
            </p:nvSpPr>
            <p:spPr>
              <a:xfrm>
                <a:off x="7870680" y="2573280"/>
                <a:ext cx="1038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rebuchet MS"/>
                  </a:rPr>
                  <a:t>New EE Meas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Cube 92"/>
              <p:cNvSpPr/>
              <p:nvPr/>
            </p:nvSpPr>
            <p:spPr>
              <a:xfrm>
                <a:off x="8281800" y="3156120"/>
                <a:ext cx="182520" cy="168120"/>
              </a:xfrm>
              <a:prstGeom prst="cube">
                <a:avLst>
                  <a:gd name="adj" fmla="val 25000"/>
                </a:avLst>
              </a:prstGeom>
              <a:solidFill>
                <a:srgbClr val="ffcc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Cube 93"/>
              <p:cNvSpPr/>
              <p:nvPr/>
            </p:nvSpPr>
            <p:spPr>
              <a:xfrm>
                <a:off x="8562960" y="3156120"/>
                <a:ext cx="182520" cy="168120"/>
              </a:xfrm>
              <a:prstGeom prst="cube">
                <a:avLst>
                  <a:gd name="adj" fmla="val 25000"/>
                </a:avLst>
              </a:prstGeom>
              <a:solidFill>
                <a:srgbClr val="ffcc1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95"/>
            <p:cNvGrpSpPr/>
            <p:nvPr/>
          </p:nvGrpSpPr>
          <p:grpSpPr>
            <a:xfrm>
              <a:off x="325440" y="1974960"/>
              <a:ext cx="7535520" cy="2560680"/>
              <a:chOff x="325440" y="1974960"/>
              <a:chExt cx="7535520" cy="2560680"/>
            </a:xfrm>
          </p:grpSpPr>
          <p:grpSp>
            <p:nvGrpSpPr>
              <p:cNvPr id="672" name="Group 194"/>
              <p:cNvGrpSpPr/>
              <p:nvPr/>
            </p:nvGrpSpPr>
            <p:grpSpPr>
              <a:xfrm>
                <a:off x="1145520" y="1974960"/>
                <a:ext cx="6715440" cy="2560680"/>
                <a:chOff x="1145520" y="1974960"/>
                <a:chExt cx="6715440" cy="2560680"/>
              </a:xfrm>
            </p:grpSpPr>
            <p:grpSp>
              <p:nvGrpSpPr>
                <p:cNvPr id="673" name="Group 98"/>
                <p:cNvGrpSpPr/>
                <p:nvPr/>
              </p:nvGrpSpPr>
              <p:grpSpPr>
                <a:xfrm>
                  <a:off x="1145520" y="1974960"/>
                  <a:ext cx="6715440" cy="2560680"/>
                  <a:chOff x="1145520" y="1974960"/>
                  <a:chExt cx="6715440" cy="2560680"/>
                </a:xfrm>
              </p:grpSpPr>
              <p:sp>
                <p:nvSpPr>
                  <p:cNvPr id="674" name="Trapezoid 7"/>
                  <p:cNvSpPr/>
                  <p:nvPr/>
                </p:nvSpPr>
                <p:spPr>
                  <a:xfrm rot="5400000">
                    <a:off x="3126240" y="2363040"/>
                    <a:ext cx="1627200" cy="1774800"/>
                  </a:xfrm>
                  <a:prstGeom prst="pie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Trapezoid 8"/>
                  <p:cNvSpPr/>
                  <p:nvPr/>
                </p:nvSpPr>
                <p:spPr>
                  <a:xfrm rot="5400000">
                    <a:off x="5288400" y="2537640"/>
                    <a:ext cx="771480" cy="1417680"/>
                  </a:xfrm>
                  <a:prstGeom prst="pi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Trapezoid 9"/>
                  <p:cNvSpPr/>
                  <p:nvPr/>
                </p:nvSpPr>
                <p:spPr>
                  <a:xfrm rot="5400000">
                    <a:off x="6999120" y="2575080"/>
                    <a:ext cx="369720" cy="1353960"/>
                  </a:xfrm>
                  <a:prstGeom prst="pie">
                    <a:avLst/>
                  </a:prstGeom>
                  <a:solidFill>
                    <a:srgbClr val="376092">
                      <a:alpha val="55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Trapezoid 6"/>
                  <p:cNvSpPr/>
                  <p:nvPr/>
                </p:nvSpPr>
                <p:spPr>
                  <a:xfrm rot="5400000">
                    <a:off x="738000" y="2382120"/>
                    <a:ext cx="2560680" cy="1746360"/>
                  </a:xfrm>
                  <a:prstGeom prst="pie">
                    <a:avLst/>
                  </a:prstGeom>
                  <a:solidFill>
                    <a:srgbClr val="fdead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" name="TextBox 11"/>
                <p:cNvSpPr/>
                <p:nvPr/>
              </p:nvSpPr>
              <p:spPr>
                <a:xfrm>
                  <a:off x="1197720" y="3049560"/>
                  <a:ext cx="6644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690480"/>
                      <a:tab algn="ctr" pos="2631960"/>
                      <a:tab algn="ctr" pos="4348080"/>
                      <a:tab algn="ctr" pos="5832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	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Scan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	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Scree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	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Selec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	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rebuchet MS"/>
                    </a:rPr>
                    <a:t>Asses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Action Button: Help 146"/>
              <p:cNvSpPr/>
              <p:nvPr/>
            </p:nvSpPr>
            <p:spPr>
              <a:xfrm>
                <a:off x="519120" y="2279520"/>
                <a:ext cx="172800" cy="1918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1880"/>
                  <a:gd name="textAreaBottom" fmla="*/ 180720 h 191880"/>
                </a:gdLst>
                <a:ahLst/>
                <a:rect l="textAreaLeft" t="textAreaTop" r="textAreaRight" b="textAreaBottom"/>
                <a:pathLst>
                  <a:path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3980"/>
                    </a:lnTo>
                    <a:lnTo>
                      <a:pt x="0" y="23980"/>
                    </a:lnTo>
                    <a:close/>
                  </a:path>
                  <a:path fill="lightenLess"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3980">
                    <a:moveTo>
                      <a:pt x="21600" y="0"/>
                    </a:moveTo>
                    <a:lnTo>
                      <a:pt x="21600" y="23980"/>
                    </a:lnTo>
                    <a:lnTo>
                      <a:pt x="20200" y="22580"/>
                    </a:lnTo>
                    <a:lnTo>
                      <a:pt x="20200" y="1400"/>
                    </a:lnTo>
                    <a:close/>
                  </a:path>
                  <a:path fill="darkenLess" w="21600" h="23980">
                    <a:moveTo>
                      <a:pt x="21600" y="23980"/>
                    </a:moveTo>
                    <a:lnTo>
                      <a:pt x="0" y="23980"/>
                    </a:lnTo>
                    <a:lnTo>
                      <a:pt x="1400" y="22580"/>
                    </a:lnTo>
                    <a:lnTo>
                      <a:pt x="20200" y="22580"/>
                    </a:lnTo>
                    <a:close/>
                  </a:path>
                  <a:path fill="lighten" w="21600" h="23980">
                    <a:moveTo>
                      <a:pt x="0" y="2398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580"/>
                    </a:lnTo>
                    <a:close/>
                  </a:path>
                  <a:path fill="darken" w="21600" h="23980">
                    <a:moveTo>
                      <a:pt x="10800" y="15994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3980">
                    <a:moveTo>
                      <a:pt x="11905" y="15472"/>
                    </a:moveTo>
                    <a:lnTo>
                      <a:pt x="11905" y="13513"/>
                    </a:lnTo>
                    <a:cubicBezTo>
                      <a:pt x="11905" y="12686"/>
                      <a:pt x="12236" y="11990"/>
                      <a:pt x="12837" y="11990"/>
                    </a:cubicBezTo>
                    <a:cubicBezTo>
                      <a:pt x="13968" y="11990"/>
                      <a:pt x="14865" y="10624"/>
                      <a:pt x="14865" y="9039"/>
                    </a:cubicBezTo>
                    <a:cubicBezTo>
                      <a:pt x="14865" y="6724"/>
                      <a:pt x="13011" y="4984"/>
                      <a:pt x="10800" y="4984"/>
                    </a:cubicBezTo>
                    <a:cubicBezTo>
                      <a:pt x="8589" y="4984"/>
                      <a:pt x="6918" y="6724"/>
                      <a:pt x="6918" y="9039"/>
                    </a:cubicBezTo>
                    <a:lnTo>
                      <a:pt x="8772" y="9039"/>
                    </a:lnTo>
                    <a:cubicBezTo>
                      <a:pt x="8772" y="7899"/>
                      <a:pt x="9695" y="7012"/>
                      <a:pt x="10800" y="7012"/>
                    </a:cubicBezTo>
                    <a:cubicBezTo>
                      <a:pt x="11905" y="7012"/>
                      <a:pt x="12837" y="7899"/>
                      <a:pt x="12837" y="9039"/>
                    </a:cubicBezTo>
                    <a:cubicBezTo>
                      <a:pt x="12837" y="9779"/>
                      <a:pt x="12367" y="10510"/>
                      <a:pt x="11905" y="10510"/>
                    </a:cubicBezTo>
                    <a:cubicBezTo>
                      <a:pt x="10800" y="10510"/>
                      <a:pt x="9695" y="11990"/>
                      <a:pt x="9695" y="13513"/>
                    </a:cubicBezTo>
                    <a:lnTo>
                      <a:pt x="9695" y="15472"/>
                    </a:lnTo>
                    <a:close/>
                  </a:path>
                </a:pathLst>
              </a:custGeom>
              <a:solidFill>
                <a:srgbClr val="4f81bd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ction Button: Help 154"/>
              <p:cNvSpPr/>
              <p:nvPr/>
            </p:nvSpPr>
            <p:spPr>
              <a:xfrm>
                <a:off x="803160" y="262404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d99694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Action Button: Help 155"/>
              <p:cNvSpPr/>
              <p:nvPr/>
            </p:nvSpPr>
            <p:spPr>
              <a:xfrm>
                <a:off x="549000" y="3194280"/>
                <a:ext cx="172800" cy="1918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1880"/>
                  <a:gd name="textAreaBottom" fmla="*/ 180720 h 191880"/>
                </a:gdLst>
                <a:ahLst/>
                <a:rect l="textAreaLeft" t="textAreaTop" r="textAreaRight" b="textAreaBottom"/>
                <a:pathLst>
                  <a:path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3980"/>
                    </a:lnTo>
                    <a:lnTo>
                      <a:pt x="0" y="23980"/>
                    </a:lnTo>
                    <a:close/>
                  </a:path>
                  <a:path fill="lightenLess"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3980">
                    <a:moveTo>
                      <a:pt x="21600" y="0"/>
                    </a:moveTo>
                    <a:lnTo>
                      <a:pt x="21600" y="23980"/>
                    </a:lnTo>
                    <a:lnTo>
                      <a:pt x="20200" y="22580"/>
                    </a:lnTo>
                    <a:lnTo>
                      <a:pt x="20200" y="1400"/>
                    </a:lnTo>
                    <a:close/>
                  </a:path>
                  <a:path fill="darkenLess" w="21600" h="23980">
                    <a:moveTo>
                      <a:pt x="21600" y="23980"/>
                    </a:moveTo>
                    <a:lnTo>
                      <a:pt x="0" y="23980"/>
                    </a:lnTo>
                    <a:lnTo>
                      <a:pt x="1400" y="22580"/>
                    </a:lnTo>
                    <a:lnTo>
                      <a:pt x="20200" y="22580"/>
                    </a:lnTo>
                    <a:close/>
                  </a:path>
                  <a:path fill="lighten" w="21600" h="23980">
                    <a:moveTo>
                      <a:pt x="0" y="2398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580"/>
                    </a:lnTo>
                    <a:close/>
                  </a:path>
                  <a:path fill="darken" w="21600" h="23980">
                    <a:moveTo>
                      <a:pt x="10800" y="15994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3980">
                    <a:moveTo>
                      <a:pt x="11905" y="15472"/>
                    </a:moveTo>
                    <a:lnTo>
                      <a:pt x="11905" y="13513"/>
                    </a:lnTo>
                    <a:cubicBezTo>
                      <a:pt x="11905" y="12686"/>
                      <a:pt x="12236" y="11990"/>
                      <a:pt x="12837" y="11990"/>
                    </a:cubicBezTo>
                    <a:cubicBezTo>
                      <a:pt x="13968" y="11990"/>
                      <a:pt x="14865" y="10624"/>
                      <a:pt x="14865" y="9039"/>
                    </a:cubicBezTo>
                    <a:cubicBezTo>
                      <a:pt x="14865" y="6724"/>
                      <a:pt x="13011" y="4984"/>
                      <a:pt x="10800" y="4984"/>
                    </a:cubicBezTo>
                    <a:cubicBezTo>
                      <a:pt x="8589" y="4984"/>
                      <a:pt x="6918" y="6724"/>
                      <a:pt x="6918" y="9039"/>
                    </a:cubicBezTo>
                    <a:lnTo>
                      <a:pt x="8772" y="9039"/>
                    </a:lnTo>
                    <a:cubicBezTo>
                      <a:pt x="8772" y="7899"/>
                      <a:pt x="9695" y="7012"/>
                      <a:pt x="10800" y="7012"/>
                    </a:cubicBezTo>
                    <a:cubicBezTo>
                      <a:pt x="11905" y="7012"/>
                      <a:pt x="12837" y="7899"/>
                      <a:pt x="12837" y="9039"/>
                    </a:cubicBezTo>
                    <a:cubicBezTo>
                      <a:pt x="12837" y="9779"/>
                      <a:pt x="12367" y="10510"/>
                      <a:pt x="11905" y="10510"/>
                    </a:cubicBezTo>
                    <a:cubicBezTo>
                      <a:pt x="10800" y="10510"/>
                      <a:pt x="9695" y="11990"/>
                      <a:pt x="9695" y="13513"/>
                    </a:cubicBezTo>
                    <a:lnTo>
                      <a:pt x="9695" y="15472"/>
                    </a:lnTo>
                    <a:close/>
                  </a:path>
                </a:pathLst>
              </a:custGeom>
              <a:solidFill>
                <a:srgbClr val="92d05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Action Button: Help 156"/>
              <p:cNvSpPr/>
              <p:nvPr/>
            </p:nvSpPr>
            <p:spPr>
              <a:xfrm>
                <a:off x="863280" y="416916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92d05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Action Button: Help 157"/>
              <p:cNvSpPr/>
              <p:nvPr/>
            </p:nvSpPr>
            <p:spPr>
              <a:xfrm>
                <a:off x="325440" y="364032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d99694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Action Button: Help 158"/>
              <p:cNvSpPr/>
              <p:nvPr/>
            </p:nvSpPr>
            <p:spPr>
              <a:xfrm>
                <a:off x="387000" y="2817720"/>
                <a:ext cx="171360" cy="193680"/>
              </a:xfrm>
              <a:custGeom>
                <a:avLst/>
                <a:gdLst>
                  <a:gd name="textAreaLeft" fmla="*/ 10800 w 171360"/>
                  <a:gd name="textAreaRight" fmla="*/ 160560 w 171360"/>
                  <a:gd name="textAreaTop" fmla="*/ 10800 h 193680"/>
                  <a:gd name="textAreaBottom" fmla="*/ 182880 h 193680"/>
                </a:gdLst>
                <a:ahLst/>
                <a:rect l="textAreaLeft" t="textAreaTop" r="textAreaRight" b="textAreaBottom"/>
                <a:pathLst>
                  <a:path w="21600" h="2440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408"/>
                    </a:lnTo>
                    <a:lnTo>
                      <a:pt x="0" y="24408"/>
                    </a:lnTo>
                    <a:close/>
                  </a:path>
                  <a:path fill="lightenLess" w="21600" h="24408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408">
                    <a:moveTo>
                      <a:pt x="21600" y="0"/>
                    </a:moveTo>
                    <a:lnTo>
                      <a:pt x="21600" y="24408"/>
                    </a:lnTo>
                    <a:lnTo>
                      <a:pt x="20200" y="23008"/>
                    </a:lnTo>
                    <a:lnTo>
                      <a:pt x="20200" y="1400"/>
                    </a:lnTo>
                    <a:close/>
                  </a:path>
                  <a:path fill="darkenLess" w="21600" h="24408">
                    <a:moveTo>
                      <a:pt x="21600" y="24408"/>
                    </a:moveTo>
                    <a:lnTo>
                      <a:pt x="0" y="24408"/>
                    </a:lnTo>
                    <a:lnTo>
                      <a:pt x="1400" y="23008"/>
                    </a:lnTo>
                    <a:lnTo>
                      <a:pt x="20200" y="23008"/>
                    </a:lnTo>
                    <a:close/>
                  </a:path>
                  <a:path fill="lighten" w="21600" h="24408">
                    <a:moveTo>
                      <a:pt x="0" y="24408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3008"/>
                    </a:lnTo>
                    <a:close/>
                  </a:path>
                  <a:path fill="darken" w="21600" h="24408">
                    <a:moveTo>
                      <a:pt x="10800" y="16207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408">
                    <a:moveTo>
                      <a:pt x="11905" y="15685"/>
                    </a:moveTo>
                    <a:lnTo>
                      <a:pt x="11905" y="13727"/>
                    </a:lnTo>
                    <a:cubicBezTo>
                      <a:pt x="11905" y="12900"/>
                      <a:pt x="12236" y="12204"/>
                      <a:pt x="12837" y="12204"/>
                    </a:cubicBezTo>
                    <a:cubicBezTo>
                      <a:pt x="13968" y="12204"/>
                      <a:pt x="14865" y="10837"/>
                      <a:pt x="14865" y="9253"/>
                    </a:cubicBezTo>
                    <a:cubicBezTo>
                      <a:pt x="14865" y="6938"/>
                      <a:pt x="13011" y="5197"/>
                      <a:pt x="10800" y="5197"/>
                    </a:cubicBezTo>
                    <a:cubicBezTo>
                      <a:pt x="8589" y="5197"/>
                      <a:pt x="6918" y="6938"/>
                      <a:pt x="6918" y="9253"/>
                    </a:cubicBezTo>
                    <a:lnTo>
                      <a:pt x="8772" y="9253"/>
                    </a:lnTo>
                    <a:cubicBezTo>
                      <a:pt x="8772" y="8113"/>
                      <a:pt x="9695" y="7225"/>
                      <a:pt x="10800" y="7225"/>
                    </a:cubicBezTo>
                    <a:cubicBezTo>
                      <a:pt x="11905" y="7225"/>
                      <a:pt x="12837" y="8113"/>
                      <a:pt x="12837" y="9253"/>
                    </a:cubicBezTo>
                    <a:cubicBezTo>
                      <a:pt x="12837" y="9993"/>
                      <a:pt x="12367" y="10724"/>
                      <a:pt x="11905" y="10724"/>
                    </a:cubicBezTo>
                    <a:cubicBezTo>
                      <a:pt x="10800" y="10724"/>
                      <a:pt x="9695" y="12204"/>
                      <a:pt x="9695" y="13727"/>
                    </a:cubicBezTo>
                    <a:lnTo>
                      <a:pt x="9695" y="15685"/>
                    </a:lnTo>
                    <a:close/>
                  </a:path>
                </a:pathLst>
              </a:custGeom>
              <a:solidFill>
                <a:srgbClr val="4f81bd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ction Button: Help 159"/>
              <p:cNvSpPr/>
              <p:nvPr/>
            </p:nvSpPr>
            <p:spPr>
              <a:xfrm>
                <a:off x="833400" y="308160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4f81bd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Action Button: Help 160"/>
              <p:cNvSpPr/>
              <p:nvPr/>
            </p:nvSpPr>
            <p:spPr>
              <a:xfrm>
                <a:off x="387000" y="3976920"/>
                <a:ext cx="171360" cy="191880"/>
              </a:xfrm>
              <a:custGeom>
                <a:avLst/>
                <a:gdLst>
                  <a:gd name="textAreaLeft" fmla="*/ 10800 w 171360"/>
                  <a:gd name="textAreaRight" fmla="*/ 160560 w 171360"/>
                  <a:gd name="textAreaTop" fmla="*/ 10800 h 191880"/>
                  <a:gd name="textAreaBottom" fmla="*/ 181080 h 191880"/>
                </a:gdLst>
                <a:ahLst/>
                <a:rect l="textAreaLeft" t="textAreaTop" r="textAreaRight" b="textAreaBottom"/>
                <a:pathLst>
                  <a:path w="21600" h="24181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181"/>
                    </a:lnTo>
                    <a:lnTo>
                      <a:pt x="0" y="24181"/>
                    </a:lnTo>
                    <a:close/>
                  </a:path>
                  <a:path fill="lightenLess" w="21600" h="24181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181">
                    <a:moveTo>
                      <a:pt x="21600" y="0"/>
                    </a:moveTo>
                    <a:lnTo>
                      <a:pt x="21600" y="24181"/>
                    </a:lnTo>
                    <a:lnTo>
                      <a:pt x="20200" y="22781"/>
                    </a:lnTo>
                    <a:lnTo>
                      <a:pt x="20200" y="1400"/>
                    </a:lnTo>
                    <a:close/>
                  </a:path>
                  <a:path fill="darkenLess" w="21600" h="24181">
                    <a:moveTo>
                      <a:pt x="21600" y="24181"/>
                    </a:moveTo>
                    <a:lnTo>
                      <a:pt x="0" y="24181"/>
                    </a:lnTo>
                    <a:lnTo>
                      <a:pt x="1400" y="22781"/>
                    </a:lnTo>
                    <a:lnTo>
                      <a:pt x="20200" y="22781"/>
                    </a:lnTo>
                    <a:close/>
                  </a:path>
                  <a:path fill="lighten" w="21600" h="24181">
                    <a:moveTo>
                      <a:pt x="0" y="24181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781"/>
                    </a:lnTo>
                    <a:close/>
                  </a:path>
                  <a:path fill="darken" w="21600" h="24181">
                    <a:moveTo>
                      <a:pt x="10800" y="16094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181">
                    <a:moveTo>
                      <a:pt x="11905" y="15572"/>
                    </a:moveTo>
                    <a:lnTo>
                      <a:pt x="11905" y="13614"/>
                    </a:lnTo>
                    <a:cubicBezTo>
                      <a:pt x="11905" y="12787"/>
                      <a:pt x="12236" y="12091"/>
                      <a:pt x="12837" y="12091"/>
                    </a:cubicBezTo>
                    <a:cubicBezTo>
                      <a:pt x="13968" y="12091"/>
                      <a:pt x="14865" y="10724"/>
                      <a:pt x="14865" y="9140"/>
                    </a:cubicBezTo>
                    <a:cubicBezTo>
                      <a:pt x="14865" y="6825"/>
                      <a:pt x="13011" y="5084"/>
                      <a:pt x="10800" y="5084"/>
                    </a:cubicBezTo>
                    <a:cubicBezTo>
                      <a:pt x="8589" y="5084"/>
                      <a:pt x="6918" y="6825"/>
                      <a:pt x="6918" y="9140"/>
                    </a:cubicBezTo>
                    <a:lnTo>
                      <a:pt x="8772" y="9140"/>
                    </a:lnTo>
                    <a:cubicBezTo>
                      <a:pt x="8772" y="8000"/>
                      <a:pt x="9695" y="7112"/>
                      <a:pt x="10800" y="7112"/>
                    </a:cubicBezTo>
                    <a:cubicBezTo>
                      <a:pt x="11905" y="7112"/>
                      <a:pt x="12837" y="8000"/>
                      <a:pt x="12837" y="9140"/>
                    </a:cubicBezTo>
                    <a:cubicBezTo>
                      <a:pt x="12837" y="9880"/>
                      <a:pt x="12367" y="10611"/>
                      <a:pt x="11905" y="10611"/>
                    </a:cubicBezTo>
                    <a:cubicBezTo>
                      <a:pt x="10800" y="10611"/>
                      <a:pt x="9695" y="12091"/>
                      <a:pt x="9695" y="13614"/>
                    </a:cubicBezTo>
                    <a:lnTo>
                      <a:pt x="9695" y="15572"/>
                    </a:lnTo>
                    <a:close/>
                  </a:path>
                </a:pathLst>
              </a:custGeom>
              <a:solidFill>
                <a:srgbClr val="92d05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ction Button: Help 161"/>
              <p:cNvSpPr/>
              <p:nvPr/>
            </p:nvSpPr>
            <p:spPr>
              <a:xfrm>
                <a:off x="823680" y="213660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92d05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ction Button: Help 162"/>
              <p:cNvSpPr/>
              <p:nvPr/>
            </p:nvSpPr>
            <p:spPr>
              <a:xfrm>
                <a:off x="1311120" y="3651480"/>
                <a:ext cx="172800" cy="1918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1880"/>
                  <a:gd name="textAreaBottom" fmla="*/ 180720 h 191880"/>
                </a:gdLst>
                <a:ahLst/>
                <a:rect l="textAreaLeft" t="textAreaTop" r="textAreaRight" b="textAreaBottom"/>
                <a:pathLst>
                  <a:path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3980"/>
                    </a:lnTo>
                    <a:lnTo>
                      <a:pt x="0" y="23980"/>
                    </a:lnTo>
                    <a:close/>
                  </a:path>
                  <a:path fill="lightenLess"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3980">
                    <a:moveTo>
                      <a:pt x="21600" y="0"/>
                    </a:moveTo>
                    <a:lnTo>
                      <a:pt x="21600" y="23980"/>
                    </a:lnTo>
                    <a:lnTo>
                      <a:pt x="20200" y="22580"/>
                    </a:lnTo>
                    <a:lnTo>
                      <a:pt x="20200" y="1400"/>
                    </a:lnTo>
                    <a:close/>
                  </a:path>
                  <a:path fill="darkenLess" w="21600" h="23980">
                    <a:moveTo>
                      <a:pt x="21600" y="23980"/>
                    </a:moveTo>
                    <a:lnTo>
                      <a:pt x="0" y="23980"/>
                    </a:lnTo>
                    <a:lnTo>
                      <a:pt x="1400" y="22580"/>
                    </a:lnTo>
                    <a:lnTo>
                      <a:pt x="20200" y="22580"/>
                    </a:lnTo>
                    <a:close/>
                  </a:path>
                  <a:path fill="lighten" w="21600" h="23980">
                    <a:moveTo>
                      <a:pt x="0" y="2398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580"/>
                    </a:lnTo>
                    <a:close/>
                  </a:path>
                  <a:path fill="darken" w="21600" h="23980">
                    <a:moveTo>
                      <a:pt x="10800" y="15994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3980">
                    <a:moveTo>
                      <a:pt x="11905" y="15472"/>
                    </a:moveTo>
                    <a:lnTo>
                      <a:pt x="11905" y="13513"/>
                    </a:lnTo>
                    <a:cubicBezTo>
                      <a:pt x="11905" y="12686"/>
                      <a:pt x="12236" y="11990"/>
                      <a:pt x="12837" y="11990"/>
                    </a:cubicBezTo>
                    <a:cubicBezTo>
                      <a:pt x="13968" y="11990"/>
                      <a:pt x="14865" y="10624"/>
                      <a:pt x="14865" y="9039"/>
                    </a:cubicBezTo>
                    <a:cubicBezTo>
                      <a:pt x="14865" y="6724"/>
                      <a:pt x="13011" y="4984"/>
                      <a:pt x="10800" y="4984"/>
                    </a:cubicBezTo>
                    <a:cubicBezTo>
                      <a:pt x="8589" y="4984"/>
                      <a:pt x="6918" y="6724"/>
                      <a:pt x="6918" y="9039"/>
                    </a:cubicBezTo>
                    <a:lnTo>
                      <a:pt x="8772" y="9039"/>
                    </a:lnTo>
                    <a:cubicBezTo>
                      <a:pt x="8772" y="7899"/>
                      <a:pt x="9695" y="7012"/>
                      <a:pt x="10800" y="7012"/>
                    </a:cubicBezTo>
                    <a:cubicBezTo>
                      <a:pt x="11905" y="7012"/>
                      <a:pt x="12837" y="7899"/>
                      <a:pt x="12837" y="9039"/>
                    </a:cubicBezTo>
                    <a:cubicBezTo>
                      <a:pt x="12837" y="9779"/>
                      <a:pt x="12367" y="10510"/>
                      <a:pt x="11905" y="10510"/>
                    </a:cubicBezTo>
                    <a:cubicBezTo>
                      <a:pt x="10800" y="10510"/>
                      <a:pt x="9695" y="11990"/>
                      <a:pt x="9695" y="13513"/>
                    </a:cubicBezTo>
                    <a:lnTo>
                      <a:pt x="9695" y="15472"/>
                    </a:lnTo>
                    <a:close/>
                  </a:path>
                </a:pathLst>
              </a:custGeom>
              <a:solidFill>
                <a:srgbClr val="d99694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Action Button: Help 163"/>
              <p:cNvSpPr/>
              <p:nvPr/>
            </p:nvSpPr>
            <p:spPr>
              <a:xfrm>
                <a:off x="1963800" y="284976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d99694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Action Button: Help 164"/>
              <p:cNvSpPr/>
              <p:nvPr/>
            </p:nvSpPr>
            <p:spPr>
              <a:xfrm>
                <a:off x="2601720" y="2617920"/>
                <a:ext cx="171360" cy="191880"/>
              </a:xfrm>
              <a:custGeom>
                <a:avLst/>
                <a:gdLst>
                  <a:gd name="textAreaLeft" fmla="*/ 10800 w 171360"/>
                  <a:gd name="textAreaRight" fmla="*/ 160560 w 171360"/>
                  <a:gd name="textAreaTop" fmla="*/ 10800 h 191880"/>
                  <a:gd name="textAreaBottom" fmla="*/ 181080 h 191880"/>
                </a:gdLst>
                <a:ahLst/>
                <a:rect l="textAreaLeft" t="textAreaTop" r="textAreaRight" b="textAreaBottom"/>
                <a:pathLst>
                  <a:path w="21600" h="24181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181"/>
                    </a:lnTo>
                    <a:lnTo>
                      <a:pt x="0" y="24181"/>
                    </a:lnTo>
                    <a:close/>
                  </a:path>
                  <a:path fill="lightenLess" w="21600" h="24181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181">
                    <a:moveTo>
                      <a:pt x="21600" y="0"/>
                    </a:moveTo>
                    <a:lnTo>
                      <a:pt x="21600" y="24181"/>
                    </a:lnTo>
                    <a:lnTo>
                      <a:pt x="20200" y="22781"/>
                    </a:lnTo>
                    <a:lnTo>
                      <a:pt x="20200" y="1400"/>
                    </a:lnTo>
                    <a:close/>
                  </a:path>
                  <a:path fill="darkenLess" w="21600" h="24181">
                    <a:moveTo>
                      <a:pt x="21600" y="24181"/>
                    </a:moveTo>
                    <a:lnTo>
                      <a:pt x="0" y="24181"/>
                    </a:lnTo>
                    <a:lnTo>
                      <a:pt x="1400" y="22781"/>
                    </a:lnTo>
                    <a:lnTo>
                      <a:pt x="20200" y="22781"/>
                    </a:lnTo>
                    <a:close/>
                  </a:path>
                  <a:path fill="lighten" w="21600" h="24181">
                    <a:moveTo>
                      <a:pt x="0" y="24181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781"/>
                    </a:lnTo>
                    <a:close/>
                  </a:path>
                  <a:path fill="darken" w="21600" h="24181">
                    <a:moveTo>
                      <a:pt x="10800" y="16094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181">
                    <a:moveTo>
                      <a:pt x="11905" y="15572"/>
                    </a:moveTo>
                    <a:lnTo>
                      <a:pt x="11905" y="13614"/>
                    </a:lnTo>
                    <a:cubicBezTo>
                      <a:pt x="11905" y="12787"/>
                      <a:pt x="12236" y="12091"/>
                      <a:pt x="12837" y="12091"/>
                    </a:cubicBezTo>
                    <a:cubicBezTo>
                      <a:pt x="13968" y="12091"/>
                      <a:pt x="14865" y="10724"/>
                      <a:pt x="14865" y="9140"/>
                    </a:cubicBezTo>
                    <a:cubicBezTo>
                      <a:pt x="14865" y="6825"/>
                      <a:pt x="13011" y="5084"/>
                      <a:pt x="10800" y="5084"/>
                    </a:cubicBezTo>
                    <a:cubicBezTo>
                      <a:pt x="8589" y="5084"/>
                      <a:pt x="6918" y="6825"/>
                      <a:pt x="6918" y="9140"/>
                    </a:cubicBezTo>
                    <a:lnTo>
                      <a:pt x="8772" y="9140"/>
                    </a:lnTo>
                    <a:cubicBezTo>
                      <a:pt x="8772" y="8000"/>
                      <a:pt x="9695" y="7112"/>
                      <a:pt x="10800" y="7112"/>
                    </a:cubicBezTo>
                    <a:cubicBezTo>
                      <a:pt x="11905" y="7112"/>
                      <a:pt x="12837" y="8000"/>
                      <a:pt x="12837" y="9140"/>
                    </a:cubicBezTo>
                    <a:cubicBezTo>
                      <a:pt x="12837" y="9880"/>
                      <a:pt x="12367" y="10611"/>
                      <a:pt x="11905" y="10611"/>
                    </a:cubicBezTo>
                    <a:cubicBezTo>
                      <a:pt x="10800" y="10611"/>
                      <a:pt x="9695" y="12091"/>
                      <a:pt x="9695" y="13614"/>
                    </a:cubicBezTo>
                    <a:lnTo>
                      <a:pt x="9695" y="15572"/>
                    </a:lnTo>
                    <a:close/>
                  </a:path>
                </a:pathLst>
              </a:custGeom>
              <a:solidFill>
                <a:srgbClr val="4f81bd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ction Button: Help 165"/>
              <p:cNvSpPr/>
              <p:nvPr/>
            </p:nvSpPr>
            <p:spPr>
              <a:xfrm>
                <a:off x="1027080" y="389448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4f81bd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ction Button: Help 166"/>
              <p:cNvSpPr/>
              <p:nvPr/>
            </p:nvSpPr>
            <p:spPr>
              <a:xfrm>
                <a:off x="1077840" y="320364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92d05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ction Button: Help 167"/>
              <p:cNvSpPr/>
              <p:nvPr/>
            </p:nvSpPr>
            <p:spPr>
              <a:xfrm>
                <a:off x="2057400" y="343872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92d05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Action Button: Help 168"/>
              <p:cNvSpPr/>
              <p:nvPr/>
            </p:nvSpPr>
            <p:spPr>
              <a:xfrm>
                <a:off x="2539800" y="299736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d99694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ction Button: Help 169"/>
              <p:cNvSpPr/>
              <p:nvPr/>
            </p:nvSpPr>
            <p:spPr>
              <a:xfrm>
                <a:off x="874440" y="345780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d99694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ction Button: Help 170"/>
              <p:cNvSpPr/>
              <p:nvPr/>
            </p:nvSpPr>
            <p:spPr>
              <a:xfrm>
                <a:off x="2373120" y="3286080"/>
                <a:ext cx="172800" cy="1918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1880"/>
                  <a:gd name="textAreaBottom" fmla="*/ 180720 h 191880"/>
                </a:gdLst>
                <a:ahLst/>
                <a:rect l="textAreaLeft" t="textAreaTop" r="textAreaRight" b="textAreaBottom"/>
                <a:pathLst>
                  <a:path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3980"/>
                    </a:lnTo>
                    <a:lnTo>
                      <a:pt x="0" y="23980"/>
                    </a:lnTo>
                    <a:close/>
                  </a:path>
                  <a:path fill="lightenLess"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3980">
                    <a:moveTo>
                      <a:pt x="21600" y="0"/>
                    </a:moveTo>
                    <a:lnTo>
                      <a:pt x="21600" y="23980"/>
                    </a:lnTo>
                    <a:lnTo>
                      <a:pt x="20200" y="22580"/>
                    </a:lnTo>
                    <a:lnTo>
                      <a:pt x="20200" y="1400"/>
                    </a:lnTo>
                    <a:close/>
                  </a:path>
                  <a:path fill="darkenLess" w="21600" h="23980">
                    <a:moveTo>
                      <a:pt x="21600" y="23980"/>
                    </a:moveTo>
                    <a:lnTo>
                      <a:pt x="0" y="23980"/>
                    </a:lnTo>
                    <a:lnTo>
                      <a:pt x="1400" y="22580"/>
                    </a:lnTo>
                    <a:lnTo>
                      <a:pt x="20200" y="22580"/>
                    </a:lnTo>
                    <a:close/>
                  </a:path>
                  <a:path fill="lighten" w="21600" h="23980">
                    <a:moveTo>
                      <a:pt x="0" y="2398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580"/>
                    </a:lnTo>
                    <a:close/>
                  </a:path>
                  <a:path fill="darken" w="21600" h="23980">
                    <a:moveTo>
                      <a:pt x="10800" y="15994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3980">
                    <a:moveTo>
                      <a:pt x="11905" y="15472"/>
                    </a:moveTo>
                    <a:lnTo>
                      <a:pt x="11905" y="13513"/>
                    </a:lnTo>
                    <a:cubicBezTo>
                      <a:pt x="11905" y="12686"/>
                      <a:pt x="12236" y="11990"/>
                      <a:pt x="12837" y="11990"/>
                    </a:cubicBezTo>
                    <a:cubicBezTo>
                      <a:pt x="13968" y="11990"/>
                      <a:pt x="14865" y="10624"/>
                      <a:pt x="14865" y="9039"/>
                    </a:cubicBezTo>
                    <a:cubicBezTo>
                      <a:pt x="14865" y="6724"/>
                      <a:pt x="13011" y="4984"/>
                      <a:pt x="10800" y="4984"/>
                    </a:cubicBezTo>
                    <a:cubicBezTo>
                      <a:pt x="8589" y="4984"/>
                      <a:pt x="6918" y="6724"/>
                      <a:pt x="6918" y="9039"/>
                    </a:cubicBezTo>
                    <a:lnTo>
                      <a:pt x="8772" y="9039"/>
                    </a:lnTo>
                    <a:cubicBezTo>
                      <a:pt x="8772" y="7899"/>
                      <a:pt x="9695" y="7012"/>
                      <a:pt x="10800" y="7012"/>
                    </a:cubicBezTo>
                    <a:cubicBezTo>
                      <a:pt x="11905" y="7012"/>
                      <a:pt x="12837" y="7899"/>
                      <a:pt x="12837" y="9039"/>
                    </a:cubicBezTo>
                    <a:cubicBezTo>
                      <a:pt x="12837" y="9779"/>
                      <a:pt x="12367" y="10510"/>
                      <a:pt x="11905" y="10510"/>
                    </a:cubicBezTo>
                    <a:cubicBezTo>
                      <a:pt x="10800" y="10510"/>
                      <a:pt x="9695" y="11990"/>
                      <a:pt x="9695" y="13513"/>
                    </a:cubicBezTo>
                    <a:lnTo>
                      <a:pt x="9695" y="15472"/>
                    </a:lnTo>
                    <a:close/>
                  </a:path>
                </a:pathLst>
              </a:custGeom>
              <a:solidFill>
                <a:srgbClr val="92d05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ction Button: Help 171"/>
              <p:cNvSpPr/>
              <p:nvPr/>
            </p:nvSpPr>
            <p:spPr>
              <a:xfrm>
                <a:off x="671400" y="369108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4f81bd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ction Button: Help 172"/>
              <p:cNvSpPr/>
              <p:nvPr/>
            </p:nvSpPr>
            <p:spPr>
              <a:xfrm>
                <a:off x="1523880" y="406908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4f81bd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ction Button: Help 173"/>
              <p:cNvSpPr/>
              <p:nvPr/>
            </p:nvSpPr>
            <p:spPr>
              <a:xfrm>
                <a:off x="1676160" y="366408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4f81bd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ction Button: Help 174"/>
              <p:cNvSpPr/>
              <p:nvPr/>
            </p:nvSpPr>
            <p:spPr>
              <a:xfrm>
                <a:off x="1431720" y="2287440"/>
                <a:ext cx="171360" cy="191880"/>
              </a:xfrm>
              <a:custGeom>
                <a:avLst/>
                <a:gdLst>
                  <a:gd name="textAreaLeft" fmla="*/ 10800 w 171360"/>
                  <a:gd name="textAreaRight" fmla="*/ 160560 w 171360"/>
                  <a:gd name="textAreaTop" fmla="*/ 10800 h 191880"/>
                  <a:gd name="textAreaBottom" fmla="*/ 181080 h 191880"/>
                </a:gdLst>
                <a:ahLst/>
                <a:rect l="textAreaLeft" t="textAreaTop" r="textAreaRight" b="textAreaBottom"/>
                <a:pathLst>
                  <a:path w="21600" h="24181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181"/>
                    </a:lnTo>
                    <a:lnTo>
                      <a:pt x="0" y="24181"/>
                    </a:lnTo>
                    <a:close/>
                  </a:path>
                  <a:path fill="lightenLess" w="21600" h="24181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181">
                    <a:moveTo>
                      <a:pt x="21600" y="0"/>
                    </a:moveTo>
                    <a:lnTo>
                      <a:pt x="21600" y="24181"/>
                    </a:lnTo>
                    <a:lnTo>
                      <a:pt x="20200" y="22781"/>
                    </a:lnTo>
                    <a:lnTo>
                      <a:pt x="20200" y="1400"/>
                    </a:lnTo>
                    <a:close/>
                  </a:path>
                  <a:path fill="darkenLess" w="21600" h="24181">
                    <a:moveTo>
                      <a:pt x="21600" y="24181"/>
                    </a:moveTo>
                    <a:lnTo>
                      <a:pt x="0" y="24181"/>
                    </a:lnTo>
                    <a:lnTo>
                      <a:pt x="1400" y="22781"/>
                    </a:lnTo>
                    <a:lnTo>
                      <a:pt x="20200" y="22781"/>
                    </a:lnTo>
                    <a:close/>
                  </a:path>
                  <a:path fill="lighten" w="21600" h="24181">
                    <a:moveTo>
                      <a:pt x="0" y="24181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781"/>
                    </a:lnTo>
                    <a:close/>
                  </a:path>
                  <a:path fill="darken" w="21600" h="24181">
                    <a:moveTo>
                      <a:pt x="10800" y="16094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181">
                    <a:moveTo>
                      <a:pt x="11905" y="15572"/>
                    </a:moveTo>
                    <a:lnTo>
                      <a:pt x="11905" y="13614"/>
                    </a:lnTo>
                    <a:cubicBezTo>
                      <a:pt x="11905" y="12787"/>
                      <a:pt x="12236" y="12091"/>
                      <a:pt x="12837" y="12091"/>
                    </a:cubicBezTo>
                    <a:cubicBezTo>
                      <a:pt x="13968" y="12091"/>
                      <a:pt x="14865" y="10724"/>
                      <a:pt x="14865" y="9140"/>
                    </a:cubicBezTo>
                    <a:cubicBezTo>
                      <a:pt x="14865" y="6825"/>
                      <a:pt x="13011" y="5084"/>
                      <a:pt x="10800" y="5084"/>
                    </a:cubicBezTo>
                    <a:cubicBezTo>
                      <a:pt x="8589" y="5084"/>
                      <a:pt x="6918" y="6825"/>
                      <a:pt x="6918" y="9140"/>
                    </a:cubicBezTo>
                    <a:lnTo>
                      <a:pt x="8772" y="9140"/>
                    </a:lnTo>
                    <a:cubicBezTo>
                      <a:pt x="8772" y="8000"/>
                      <a:pt x="9695" y="7112"/>
                      <a:pt x="10800" y="7112"/>
                    </a:cubicBezTo>
                    <a:cubicBezTo>
                      <a:pt x="11905" y="7112"/>
                      <a:pt x="12837" y="8000"/>
                      <a:pt x="12837" y="9140"/>
                    </a:cubicBezTo>
                    <a:cubicBezTo>
                      <a:pt x="12837" y="9880"/>
                      <a:pt x="12367" y="10611"/>
                      <a:pt x="11905" y="10611"/>
                    </a:cubicBezTo>
                    <a:cubicBezTo>
                      <a:pt x="10800" y="10611"/>
                      <a:pt x="9695" y="12091"/>
                      <a:pt x="9695" y="13614"/>
                    </a:cubicBezTo>
                    <a:lnTo>
                      <a:pt x="9695" y="15572"/>
                    </a:lnTo>
                    <a:close/>
                  </a:path>
                </a:pathLst>
              </a:custGeom>
              <a:solidFill>
                <a:srgbClr val="4f81bd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ction Button: Help 175"/>
              <p:cNvSpPr/>
              <p:nvPr/>
            </p:nvSpPr>
            <p:spPr>
              <a:xfrm>
                <a:off x="2236680" y="2457360"/>
                <a:ext cx="172800" cy="1918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1880"/>
                  <a:gd name="textAreaBottom" fmla="*/ 180720 h 191880"/>
                </a:gdLst>
                <a:ahLst/>
                <a:rect l="textAreaLeft" t="textAreaTop" r="textAreaRight" b="textAreaBottom"/>
                <a:pathLst>
                  <a:path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3980"/>
                    </a:lnTo>
                    <a:lnTo>
                      <a:pt x="0" y="23980"/>
                    </a:lnTo>
                    <a:close/>
                  </a:path>
                  <a:path fill="lightenLess"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3980">
                    <a:moveTo>
                      <a:pt x="21600" y="0"/>
                    </a:moveTo>
                    <a:lnTo>
                      <a:pt x="21600" y="23980"/>
                    </a:lnTo>
                    <a:lnTo>
                      <a:pt x="20200" y="22580"/>
                    </a:lnTo>
                    <a:lnTo>
                      <a:pt x="20200" y="1400"/>
                    </a:lnTo>
                    <a:close/>
                  </a:path>
                  <a:path fill="darkenLess" w="21600" h="23980">
                    <a:moveTo>
                      <a:pt x="21600" y="23980"/>
                    </a:moveTo>
                    <a:lnTo>
                      <a:pt x="0" y="23980"/>
                    </a:lnTo>
                    <a:lnTo>
                      <a:pt x="1400" y="22580"/>
                    </a:lnTo>
                    <a:lnTo>
                      <a:pt x="20200" y="22580"/>
                    </a:lnTo>
                    <a:close/>
                  </a:path>
                  <a:path fill="lighten" w="21600" h="23980">
                    <a:moveTo>
                      <a:pt x="0" y="2398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580"/>
                    </a:lnTo>
                    <a:close/>
                  </a:path>
                  <a:path fill="darken" w="21600" h="23980">
                    <a:moveTo>
                      <a:pt x="10800" y="15994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3980">
                    <a:moveTo>
                      <a:pt x="11905" y="15472"/>
                    </a:moveTo>
                    <a:lnTo>
                      <a:pt x="11905" y="13513"/>
                    </a:lnTo>
                    <a:cubicBezTo>
                      <a:pt x="11905" y="12686"/>
                      <a:pt x="12236" y="11990"/>
                      <a:pt x="12837" y="11990"/>
                    </a:cubicBezTo>
                    <a:cubicBezTo>
                      <a:pt x="13968" y="11990"/>
                      <a:pt x="14865" y="10624"/>
                      <a:pt x="14865" y="9039"/>
                    </a:cubicBezTo>
                    <a:cubicBezTo>
                      <a:pt x="14865" y="6724"/>
                      <a:pt x="13011" y="4984"/>
                      <a:pt x="10800" y="4984"/>
                    </a:cubicBezTo>
                    <a:cubicBezTo>
                      <a:pt x="8589" y="4984"/>
                      <a:pt x="6918" y="6724"/>
                      <a:pt x="6918" y="9039"/>
                    </a:cubicBezTo>
                    <a:lnTo>
                      <a:pt x="8772" y="9039"/>
                    </a:lnTo>
                    <a:cubicBezTo>
                      <a:pt x="8772" y="7899"/>
                      <a:pt x="9695" y="7012"/>
                      <a:pt x="10800" y="7012"/>
                    </a:cubicBezTo>
                    <a:cubicBezTo>
                      <a:pt x="11905" y="7012"/>
                      <a:pt x="12837" y="7899"/>
                      <a:pt x="12837" y="9039"/>
                    </a:cubicBezTo>
                    <a:cubicBezTo>
                      <a:pt x="12837" y="9779"/>
                      <a:pt x="12367" y="10510"/>
                      <a:pt x="11905" y="10510"/>
                    </a:cubicBezTo>
                    <a:cubicBezTo>
                      <a:pt x="10800" y="10510"/>
                      <a:pt x="9695" y="11990"/>
                      <a:pt x="9695" y="13513"/>
                    </a:cubicBezTo>
                    <a:lnTo>
                      <a:pt x="9695" y="15472"/>
                    </a:lnTo>
                    <a:close/>
                  </a:path>
                </a:pathLst>
              </a:custGeom>
              <a:solidFill>
                <a:srgbClr val="92d05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ction Button: Help 176"/>
              <p:cNvSpPr/>
              <p:nvPr/>
            </p:nvSpPr>
            <p:spPr>
              <a:xfrm>
                <a:off x="1523880" y="322416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d99694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3" name="Picture 8" descr="C:\Documents and Settings\Jonathan Livingston\Local Settings\Temporary Internet Files\Content.IE5\8C7XSUQZ\MCj04380730000[1].png"/>
              <p:cNvPicPr/>
              <p:nvPr/>
            </p:nvPicPr>
            <p:blipFill>
              <a:blip r:embed="rId4"/>
              <a:stretch/>
            </p:blipFill>
            <p:spPr>
              <a:xfrm>
                <a:off x="3709800" y="2749680"/>
                <a:ext cx="185400" cy="183960"/>
              </a:xfrm>
              <a:prstGeom prst="rect">
                <a:avLst/>
              </a:prstGeom>
              <a:ln w="9360">
                <a:solidFill>
                  <a:srgbClr val="376092"/>
                </a:solidFill>
                <a:miter/>
              </a:ln>
            </p:spPr>
          </p:pic>
          <p:pic>
            <p:nvPicPr>
              <p:cNvPr id="704" name="Picture 8" descr="C:\Documents and Settings\Jonathan Livingston\Local Settings\Temporary Internet Files\Content.IE5\8C7XSUQZ\MCj04380730000[1].png"/>
              <p:cNvPicPr/>
              <p:nvPr/>
            </p:nvPicPr>
            <p:blipFill>
              <a:blip r:embed="rId5"/>
              <a:stretch/>
            </p:blipFill>
            <p:spPr>
              <a:xfrm>
                <a:off x="3367080" y="2797200"/>
                <a:ext cx="183960" cy="185760"/>
              </a:xfrm>
              <a:prstGeom prst="rect">
                <a:avLst/>
              </a:prstGeom>
              <a:ln w="9360">
                <a:solidFill>
                  <a:srgbClr val="376092"/>
                </a:solidFill>
                <a:miter/>
              </a:ln>
            </p:spPr>
          </p:pic>
          <p:pic>
            <p:nvPicPr>
              <p:cNvPr id="705" name="Picture 8" descr="C:\Documents and Settings\Jonathan Livingston\Local Settings\Temporary Internet Files\Content.IE5\8C7XSUQZ\MCj04380730000[1].png"/>
              <p:cNvPicPr/>
              <p:nvPr/>
            </p:nvPicPr>
            <p:blipFill>
              <a:blip r:embed="rId6"/>
              <a:stretch/>
            </p:blipFill>
            <p:spPr>
              <a:xfrm>
                <a:off x="3325680" y="3254400"/>
                <a:ext cx="185400" cy="185760"/>
              </a:xfrm>
              <a:prstGeom prst="rect">
                <a:avLst/>
              </a:prstGeom>
              <a:ln w="9360">
                <a:solidFill>
                  <a:srgbClr val="376092"/>
                </a:solidFill>
                <a:miter/>
              </a:ln>
            </p:spPr>
          </p:pic>
          <p:pic>
            <p:nvPicPr>
              <p:cNvPr id="706" name="Picture 8" descr="C:\Documents and Settings\Jonathan Livingston\Local Settings\Temporary Internet Files\Content.IE5\8C7XSUQZ\MCj04380730000[1].png"/>
              <p:cNvPicPr/>
              <p:nvPr/>
            </p:nvPicPr>
            <p:blipFill>
              <a:blip r:embed="rId7"/>
              <a:stretch/>
            </p:blipFill>
            <p:spPr>
              <a:xfrm>
                <a:off x="4202280" y="3365640"/>
                <a:ext cx="185400" cy="185760"/>
              </a:xfrm>
              <a:prstGeom prst="rect">
                <a:avLst/>
              </a:prstGeom>
              <a:ln w="9360">
                <a:solidFill>
                  <a:srgbClr val="376092"/>
                </a:solidFill>
                <a:miter/>
              </a:ln>
            </p:spPr>
          </p:pic>
          <p:pic>
            <p:nvPicPr>
              <p:cNvPr id="707" name="Picture 8" descr="C:\Documents and Settings\Jonathan Livingston\Local Settings\Temporary Internet Files\Content.IE5\8C7XSUQZ\MCj04380730000[1].png"/>
              <p:cNvPicPr/>
              <p:nvPr/>
            </p:nvPicPr>
            <p:blipFill>
              <a:blip r:embed="rId8"/>
              <a:stretch/>
            </p:blipFill>
            <p:spPr>
              <a:xfrm>
                <a:off x="3706920" y="3478320"/>
                <a:ext cx="185400" cy="183960"/>
              </a:xfrm>
              <a:prstGeom prst="rect">
                <a:avLst/>
              </a:prstGeom>
              <a:ln w="9360">
                <a:solidFill>
                  <a:srgbClr val="376092"/>
                </a:solidFill>
                <a:miter/>
              </a:ln>
            </p:spPr>
          </p:pic>
          <p:pic>
            <p:nvPicPr>
              <p:cNvPr id="708" name="Picture 8" descr="C:\Documents and Settings\Jonathan Livingston\Local Settings\Temporary Internet Files\Content.IE5\8C7XSUQZ\MCj04380730000[1].png"/>
              <p:cNvPicPr/>
              <p:nvPr/>
            </p:nvPicPr>
            <p:blipFill>
              <a:blip r:embed="rId9"/>
              <a:stretch/>
            </p:blipFill>
            <p:spPr>
              <a:xfrm>
                <a:off x="3989520" y="2927520"/>
                <a:ext cx="185400" cy="183960"/>
              </a:xfrm>
              <a:prstGeom prst="rect">
                <a:avLst/>
              </a:prstGeom>
              <a:ln w="9360">
                <a:solidFill>
                  <a:srgbClr val="376092"/>
                </a:solidFill>
                <a:miter/>
              </a:ln>
            </p:spPr>
          </p:pic>
          <p:pic>
            <p:nvPicPr>
              <p:cNvPr id="709" name="Picture 8" descr="C:\Documents and Settings\Jonathan Livingston\Local Settings\Temporary Internet Files\Content.IE5\8C7XSUQZ\MCj04380730000[1].png"/>
              <p:cNvPicPr/>
              <p:nvPr/>
            </p:nvPicPr>
            <p:blipFill>
              <a:blip r:embed="rId10"/>
              <a:stretch/>
            </p:blipFill>
            <p:spPr>
              <a:xfrm>
                <a:off x="4368960" y="2852640"/>
                <a:ext cx="183960" cy="185760"/>
              </a:xfrm>
              <a:prstGeom prst="rect">
                <a:avLst/>
              </a:prstGeom>
              <a:ln w="9360">
                <a:solidFill>
                  <a:srgbClr val="376092"/>
                </a:solidFill>
                <a:miter/>
              </a:ln>
            </p:spPr>
          </p:pic>
          <p:pic>
            <p:nvPicPr>
              <p:cNvPr id="710" name="Picture 8" descr="C:\Documents and Settings\Jonathan Livingston\Local Settings\Temporary Internet Files\Content.IE5\8C7XSUQZ\MCj04380730000[1].png"/>
              <p:cNvPicPr/>
              <p:nvPr/>
            </p:nvPicPr>
            <p:blipFill>
              <a:blip r:embed="rId11"/>
              <a:stretch/>
            </p:blipFill>
            <p:spPr>
              <a:xfrm>
                <a:off x="4479840" y="3200400"/>
                <a:ext cx="185400" cy="183960"/>
              </a:xfrm>
              <a:prstGeom prst="rect">
                <a:avLst/>
              </a:prstGeom>
              <a:ln w="9360">
                <a:solidFill>
                  <a:srgbClr val="376092"/>
                </a:solidFill>
                <a:miter/>
              </a:ln>
            </p:spPr>
          </p:pic>
          <p:sp>
            <p:nvSpPr>
              <p:cNvPr id="711" name="Action Button: Help 186"/>
              <p:cNvSpPr/>
              <p:nvPr/>
            </p:nvSpPr>
            <p:spPr>
              <a:xfrm>
                <a:off x="1234800" y="2890800"/>
                <a:ext cx="172800" cy="1936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3680"/>
                  <a:gd name="textAreaBottom" fmla="*/ 182520 h 193680"/>
                </a:gdLst>
                <a:ahLst/>
                <a:rect l="textAreaLeft" t="textAreaTop" r="textAreaRight" b="textAreaBottom"/>
                <a:pathLst>
                  <a:path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205"/>
                    </a:lnTo>
                    <a:lnTo>
                      <a:pt x="0" y="24205"/>
                    </a:lnTo>
                    <a:close/>
                  </a:path>
                  <a:path fill="lightenLess" w="21600" h="24205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4205">
                    <a:moveTo>
                      <a:pt x="21600" y="0"/>
                    </a:moveTo>
                    <a:lnTo>
                      <a:pt x="21600" y="24205"/>
                    </a:lnTo>
                    <a:lnTo>
                      <a:pt x="20200" y="22805"/>
                    </a:lnTo>
                    <a:lnTo>
                      <a:pt x="20200" y="1400"/>
                    </a:lnTo>
                    <a:close/>
                  </a:path>
                  <a:path fill="darkenLess" w="21600" h="24205">
                    <a:moveTo>
                      <a:pt x="21600" y="24205"/>
                    </a:moveTo>
                    <a:lnTo>
                      <a:pt x="0" y="24205"/>
                    </a:lnTo>
                    <a:lnTo>
                      <a:pt x="1400" y="22805"/>
                    </a:lnTo>
                    <a:lnTo>
                      <a:pt x="20200" y="22805"/>
                    </a:lnTo>
                    <a:close/>
                  </a:path>
                  <a:path fill="lighten" w="21600" h="24205">
                    <a:moveTo>
                      <a:pt x="0" y="24205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805"/>
                    </a:lnTo>
                    <a:close/>
                  </a:path>
                  <a:path fill="darken" w="21600" h="24205">
                    <a:moveTo>
                      <a:pt x="10800" y="16106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4205">
                    <a:moveTo>
                      <a:pt x="11905" y="15584"/>
                    </a:moveTo>
                    <a:lnTo>
                      <a:pt x="11905" y="13625"/>
                    </a:lnTo>
                    <a:cubicBezTo>
                      <a:pt x="11905" y="12799"/>
                      <a:pt x="12236" y="12102"/>
                      <a:pt x="12837" y="12102"/>
                    </a:cubicBezTo>
                    <a:cubicBezTo>
                      <a:pt x="13968" y="12102"/>
                      <a:pt x="14865" y="10736"/>
                      <a:pt x="14865" y="9152"/>
                    </a:cubicBezTo>
                    <a:cubicBezTo>
                      <a:pt x="14865" y="6837"/>
                      <a:pt x="13011" y="5096"/>
                      <a:pt x="10800" y="5096"/>
                    </a:cubicBezTo>
                    <a:cubicBezTo>
                      <a:pt x="8589" y="5096"/>
                      <a:pt x="6918" y="6837"/>
                      <a:pt x="6918" y="9152"/>
                    </a:cubicBezTo>
                    <a:lnTo>
                      <a:pt x="8772" y="9152"/>
                    </a:lnTo>
                    <a:cubicBezTo>
                      <a:pt x="8772" y="8012"/>
                      <a:pt x="9695" y="7124"/>
                      <a:pt x="10800" y="7124"/>
                    </a:cubicBezTo>
                    <a:cubicBezTo>
                      <a:pt x="11905" y="7124"/>
                      <a:pt x="12837" y="8012"/>
                      <a:pt x="12837" y="9152"/>
                    </a:cubicBezTo>
                    <a:cubicBezTo>
                      <a:pt x="12837" y="9892"/>
                      <a:pt x="12367" y="10623"/>
                      <a:pt x="11905" y="10623"/>
                    </a:cubicBezTo>
                    <a:cubicBezTo>
                      <a:pt x="10800" y="10623"/>
                      <a:pt x="9695" y="12102"/>
                      <a:pt x="9695" y="13625"/>
                    </a:cubicBezTo>
                    <a:lnTo>
                      <a:pt x="9695" y="15584"/>
                    </a:lnTo>
                    <a:close/>
                  </a:path>
                </a:pathLst>
              </a:custGeom>
              <a:solidFill>
                <a:srgbClr val="4f81bd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ction Button: Help 187"/>
              <p:cNvSpPr/>
              <p:nvPr/>
            </p:nvSpPr>
            <p:spPr>
              <a:xfrm>
                <a:off x="1552320" y="2577960"/>
                <a:ext cx="172800" cy="191880"/>
              </a:xfrm>
              <a:custGeom>
                <a:avLst/>
                <a:gdLst>
                  <a:gd name="textAreaLeft" fmla="*/ 11160 w 172800"/>
                  <a:gd name="textAreaRight" fmla="*/ 161640 w 172800"/>
                  <a:gd name="textAreaTop" fmla="*/ 11160 h 191880"/>
                  <a:gd name="textAreaBottom" fmla="*/ 180720 h 191880"/>
                </a:gdLst>
                <a:ahLst/>
                <a:rect l="textAreaLeft" t="textAreaTop" r="textAreaRight" b="textAreaBottom"/>
                <a:pathLst>
                  <a:path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3980"/>
                    </a:lnTo>
                    <a:lnTo>
                      <a:pt x="0" y="23980"/>
                    </a:lnTo>
                    <a:close/>
                  </a:path>
                  <a:path fill="lightenLess" w="21600" h="2398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3980">
                    <a:moveTo>
                      <a:pt x="21600" y="0"/>
                    </a:moveTo>
                    <a:lnTo>
                      <a:pt x="21600" y="23980"/>
                    </a:lnTo>
                    <a:lnTo>
                      <a:pt x="20200" y="22580"/>
                    </a:lnTo>
                    <a:lnTo>
                      <a:pt x="20200" y="1400"/>
                    </a:lnTo>
                    <a:close/>
                  </a:path>
                  <a:path fill="darkenLess" w="21600" h="23980">
                    <a:moveTo>
                      <a:pt x="21600" y="23980"/>
                    </a:moveTo>
                    <a:lnTo>
                      <a:pt x="0" y="23980"/>
                    </a:lnTo>
                    <a:lnTo>
                      <a:pt x="1400" y="22580"/>
                    </a:lnTo>
                    <a:lnTo>
                      <a:pt x="20200" y="22580"/>
                    </a:lnTo>
                    <a:close/>
                  </a:path>
                  <a:path fill="lighten" w="21600" h="23980">
                    <a:moveTo>
                      <a:pt x="0" y="2398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2580"/>
                    </a:lnTo>
                    <a:close/>
                  </a:path>
                  <a:path fill="darken" w="21600" h="23980">
                    <a:moveTo>
                      <a:pt x="10800" y="15994"/>
                    </a:moveTo>
                    <a:arcTo wR="1471" hR="1471" stAng="16200000" swAng="-5400000"/>
                    <a:arcTo wR="1471" hR="1471" stAng="10800000" swAng="-5400000"/>
                    <a:arcTo wR="1471" hR="1471" stAng="5400000" swAng="-5400000"/>
                    <a:arcTo wR="1471" hR="1471" stAng="0" swAng="-5400000"/>
                    <a:close/>
                  </a:path>
                  <a:path fill="darken" w="21600" h="23980">
                    <a:moveTo>
                      <a:pt x="11905" y="15472"/>
                    </a:moveTo>
                    <a:lnTo>
                      <a:pt x="11905" y="13513"/>
                    </a:lnTo>
                    <a:cubicBezTo>
                      <a:pt x="11905" y="12686"/>
                      <a:pt x="12236" y="11990"/>
                      <a:pt x="12837" y="11990"/>
                    </a:cubicBezTo>
                    <a:cubicBezTo>
                      <a:pt x="13968" y="11990"/>
                      <a:pt x="14865" y="10624"/>
                      <a:pt x="14865" y="9039"/>
                    </a:cubicBezTo>
                    <a:cubicBezTo>
                      <a:pt x="14865" y="6724"/>
                      <a:pt x="13011" y="4984"/>
                      <a:pt x="10800" y="4984"/>
                    </a:cubicBezTo>
                    <a:cubicBezTo>
                      <a:pt x="8589" y="4984"/>
                      <a:pt x="6918" y="6724"/>
                      <a:pt x="6918" y="9039"/>
                    </a:cubicBezTo>
                    <a:lnTo>
                      <a:pt x="8772" y="9039"/>
                    </a:lnTo>
                    <a:cubicBezTo>
                      <a:pt x="8772" y="7899"/>
                      <a:pt x="9695" y="7012"/>
                      <a:pt x="10800" y="7012"/>
                    </a:cubicBezTo>
                    <a:cubicBezTo>
                      <a:pt x="11905" y="7012"/>
                      <a:pt x="12837" y="7899"/>
                      <a:pt x="12837" y="9039"/>
                    </a:cubicBezTo>
                    <a:cubicBezTo>
                      <a:pt x="12837" y="9779"/>
                      <a:pt x="12367" y="10510"/>
                      <a:pt x="11905" y="10510"/>
                    </a:cubicBezTo>
                    <a:cubicBezTo>
                      <a:pt x="10800" y="10510"/>
                      <a:pt x="9695" y="11990"/>
                      <a:pt x="9695" y="13513"/>
                    </a:cubicBezTo>
                    <a:lnTo>
                      <a:pt x="9695" y="15472"/>
                    </a:lnTo>
                    <a:close/>
                  </a:path>
                </a:pathLst>
              </a:custGeom>
              <a:solidFill>
                <a:srgbClr val="92d05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98"/>
            <p:cNvGrpSpPr/>
            <p:nvPr/>
          </p:nvGrpSpPr>
          <p:grpSpPr>
            <a:xfrm>
              <a:off x="3468600" y="3606120"/>
              <a:ext cx="1520640" cy="1247040"/>
              <a:chOff x="3468600" y="3606120"/>
              <a:chExt cx="1520640" cy="1247040"/>
            </a:xfrm>
          </p:grpSpPr>
          <p:pic>
            <p:nvPicPr>
              <p:cNvPr id="714" name="Picture 2" descr="C:\Documents and Settings\Jonathan Livingston\Local Settings\Temporary Internet Files\Content.IE5\K3XPODMK\MCj04058900000[1].wmf"/>
              <p:cNvPicPr/>
              <p:nvPr/>
            </p:nvPicPr>
            <p:blipFill>
              <a:blip r:embed="rId12"/>
              <a:stretch/>
            </p:blipFill>
            <p:spPr>
              <a:xfrm>
                <a:off x="3928680" y="3606120"/>
                <a:ext cx="58716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TextBox 94"/>
              <p:cNvSpPr/>
              <p:nvPr/>
            </p:nvSpPr>
            <p:spPr>
              <a:xfrm>
                <a:off x="3468600" y="4159440"/>
                <a:ext cx="1520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alibri"/>
                  </a:rPr>
                  <a:t>E3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Solution Review She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Down Arrow 132"/>
              <p:cNvSpPr/>
              <p:nvPr/>
            </p:nvSpPr>
            <p:spPr>
              <a:xfrm>
                <a:off x="4152600" y="4634280"/>
                <a:ext cx="193680" cy="218880"/>
              </a:xfrm>
              <a:prstGeom prst="downArrow">
                <a:avLst>
                  <a:gd name="adj1" fmla="val 50000"/>
                  <a:gd name="adj2" fmla="val 49955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197"/>
            <p:cNvGrpSpPr/>
            <p:nvPr/>
          </p:nvGrpSpPr>
          <p:grpSpPr>
            <a:xfrm>
              <a:off x="5029200" y="3395880"/>
              <a:ext cx="1520640" cy="1452600"/>
              <a:chOff x="5029200" y="3395880"/>
              <a:chExt cx="1520640" cy="1452600"/>
            </a:xfrm>
          </p:grpSpPr>
          <p:pic>
            <p:nvPicPr>
              <p:cNvPr id="718" name="Picture 3" descr="C:\Documents and Settings\Jonathan Livingston\Local Settings\Temporary Internet Files\Content.IE5\8C7XSUQZ\MCj04127540000[1].wmf"/>
              <p:cNvPicPr/>
              <p:nvPr/>
            </p:nvPicPr>
            <p:blipFill>
              <a:blip r:embed="rId13"/>
              <a:stretch/>
            </p:blipFill>
            <p:spPr>
              <a:xfrm>
                <a:off x="5562360" y="3395880"/>
                <a:ext cx="382320" cy="48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9" name="TextBox 91"/>
              <p:cNvSpPr/>
              <p:nvPr/>
            </p:nvSpPr>
            <p:spPr>
              <a:xfrm>
                <a:off x="5029200" y="3892680"/>
                <a:ext cx="1520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alibri"/>
                  </a:rPr>
                  <a:t>E3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Solution Summar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Down Arrow 133"/>
              <p:cNvSpPr/>
              <p:nvPr/>
            </p:nvSpPr>
            <p:spPr>
              <a:xfrm>
                <a:off x="5727600" y="4362840"/>
                <a:ext cx="191880" cy="485640"/>
              </a:xfrm>
              <a:prstGeom prst="downArrow">
                <a:avLst>
                  <a:gd name="adj1" fmla="val 50000"/>
                  <a:gd name="adj2" fmla="val 50045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199"/>
            <p:cNvGrpSpPr/>
            <p:nvPr/>
          </p:nvGrpSpPr>
          <p:grpSpPr>
            <a:xfrm>
              <a:off x="6535800" y="3348000"/>
              <a:ext cx="1520640" cy="1503000"/>
              <a:chOff x="6535800" y="3348000"/>
              <a:chExt cx="1520640" cy="1503000"/>
            </a:xfrm>
          </p:grpSpPr>
          <p:pic>
            <p:nvPicPr>
              <p:cNvPr id="722" name="Picture 7" descr="C:\Documents and Settings\Jonathan Livingston\Local Settings\Temporary Internet Files\Content.IE5\9AFNL2ON\MCj04040130000[1].wmf"/>
              <p:cNvPicPr/>
              <p:nvPr/>
            </p:nvPicPr>
            <p:blipFill>
              <a:blip r:embed="rId14"/>
              <a:stretch/>
            </p:blipFill>
            <p:spPr>
              <a:xfrm>
                <a:off x="6959160" y="3348000"/>
                <a:ext cx="54900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TextBox 189"/>
              <p:cNvSpPr/>
              <p:nvPr/>
            </p:nvSpPr>
            <p:spPr>
              <a:xfrm>
                <a:off x="6535800" y="3858840"/>
                <a:ext cx="1520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alibri"/>
                  </a:rPr>
                  <a:t>E3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Assessment Re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Down Arrow 134"/>
              <p:cNvSpPr/>
              <p:nvPr/>
            </p:nvSpPr>
            <p:spPr>
              <a:xfrm>
                <a:off x="7213680" y="4338360"/>
                <a:ext cx="191880" cy="512640"/>
              </a:xfrm>
              <a:prstGeom prst="downArrow">
                <a:avLst>
                  <a:gd name="adj1" fmla="val 50000"/>
                  <a:gd name="adj2" fmla="val 50044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Down Arrow 137"/>
            <p:cNvSpPr/>
            <p:nvPr/>
          </p:nvSpPr>
          <p:spPr>
            <a:xfrm>
              <a:off x="2117520" y="4341960"/>
              <a:ext cx="193680" cy="512640"/>
            </a:xfrm>
            <a:prstGeom prst="downArrow">
              <a:avLst>
                <a:gd name="adj1" fmla="val 50000"/>
                <a:gd name="adj2" fmla="val 4998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ight Arrow 105"/>
          <p:cNvSpPr/>
          <p:nvPr/>
        </p:nvSpPr>
        <p:spPr>
          <a:xfrm>
            <a:off x="1146240" y="1011240"/>
            <a:ext cx="7805520" cy="1195560"/>
          </a:xfrm>
          <a:prstGeom prst="rightArrow">
            <a:avLst>
              <a:gd name="adj1" fmla="val 57648"/>
              <a:gd name="adj2" fmla="val 65801"/>
            </a:avLst>
          </a:prstGeom>
          <a:solidFill>
            <a:srgbClr val="ffcc1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3T</a:t>
            </a:r>
            <a:r>
              <a:rPr b="1" lang="en-US" sz="2000" spc="-1" strike="noStrike">
                <a:solidFill>
                  <a:srgbClr val="797979"/>
                </a:solidFill>
                <a:latin typeface="Trebuchet MS"/>
                <a:ea typeface="Times New Roman"/>
              </a:rPr>
              <a:t> People: </a:t>
            </a:r>
            <a:r>
              <a:rPr b="0" lang="en-US" sz="2000" spc="-1" strike="noStrike">
                <a:solidFill>
                  <a:srgbClr val="797979"/>
                </a:solidFill>
                <a:latin typeface="Trebuchet MS"/>
                <a:ea typeface="Times New Roman"/>
              </a:rPr>
              <a:t>EE &amp; TI Staff, TAGs,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4:17:53Z</dcterms:created>
  <dc:creator>ddb2493</dc:creator>
  <dc:description/>
  <dc:language>en-US</dc:language>
  <cp:lastModifiedBy>jmc2439</cp:lastModifiedBy>
  <dcterms:modified xsi:type="dcterms:W3CDTF">2009-04-26T21:09:31Z</dcterms:modified>
  <cp:revision>103</cp:revision>
  <dc:subject/>
  <dc:title>Slide 1</dc:title>
</cp:coreProperties>
</file>